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784-DD0C-43DC-84F8-F419E36A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8B3-F52F-4D9E-8BC6-37559DBE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D65-C6DD-4A44-B2D9-4F6506A1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5EE-598B-4466-9A1D-2370B9E8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8C4-D745-4590-8339-BA3285DE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421-3070-41F0-B4F4-1F731C93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E9C-38D0-45D6-8DA5-99E87BE6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1C4-FA18-43A3-904E-58FD59AD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372-09D2-4F9F-9665-1365A5B6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ACC-AF6C-46E7-93AC-C09C50BD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B14-C7E7-4F8B-B0E2-3F1A56EE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CFB-99EA-4681-9444-A1E0999E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D1B2-C067-4FBC-98A9-0D7B9A3C14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ock of Ages (When the Day Seems Long)</a:t>
            </a:r>
            <a:br>
              <a:rPr sz="31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andra McCracken  Music: Kevin Twit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 2005 Same Old Dress Music (ASCAP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Kevin Twit Music (ASCAP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360" y="14176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when the day seems l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is labor and this heartache, I have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kies will wear out, but you remain the s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I praise your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60" y="1218960"/>
            <a:ext cx="9296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you have brought me n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poured out your life-blood, your love, your te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make this stone heart come alive a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forgive my si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. Rock of ag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d your children until the kingdom com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 your will be d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when in want or r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desperate need for such a Savior I conf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ll these idols out from my heart embra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I need your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broken scorned for m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m I that you would die to make me fr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ive me glory, (you) took the death and p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my Offer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. Rock of ag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d your children until the kingdom com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 your will be d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"It is done!" you crie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urtain's torn and I see justice satisf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write your mercy, on my heart and hand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in faith I st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my great hope secur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promise holds just like an anchor to my so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d your children with cords of love and gra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we give you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. Rock of ag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d your children until the kingdom com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 your will be d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13:00Z</dcterms:created>
  <dc:creator>Zachary</dc:creator>
  <dc:description/>
  <dc:language>en-US</dc:language>
  <cp:lastModifiedBy>Zachary</cp:lastModifiedBy>
  <dcterms:modified xsi:type="dcterms:W3CDTF">2013-01-05T21:19:46Z</dcterms:modified>
  <cp:revision>5</cp:revision>
  <dc:subject/>
  <dc:title>The Sands of Time Are Sinking Words: Anne Cousin (based on Samuel Rutherford’s letters) Music: Philip Palmertree  ©2001 Phillip Palmertree Music</dc:title>
</cp:coreProperties>
</file>