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4D2-57CA-42A5-84E7-B8713F29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4F0-0F55-4132-BBFD-201F402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787-8EE1-4D77-9161-C0881A35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F21-008B-4E3A-9E31-5711DE1B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17D-3E79-44B3-BF27-18435C3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897-1341-45A7-8922-B43C082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6CE-2CF9-4210-B649-CDE2A38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57B-A005-4231-808D-8C70E76B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943-3625-4946-87C4-CD437192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971-B51B-4505-9A40-D053EAF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B67-15DE-41D8-A6FE-8FD40CA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22F-2D09-4F05-B7F5-5F8F737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C10-BBFB-4FBF-97B7-DFDAF4C487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ck of Ages (When the Day Seems Long)</a:t>
            </a:r>
            <a:br>
              <a:rPr sz="31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ndra McCracken  Music: Kevin Twit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 2005 Same Old Dress Music (ASCAP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Kevin Twit Music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14176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when the day seems l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is labor and this heartache, I have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kies will wear out, but you remain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I praise your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1218960"/>
            <a:ext cx="9296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you have brought me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poured out your life-blood, your love, your t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ake this stone heart come alive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forgive my s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. Rock of 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until the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 your will b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when in want or 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esperate need for such a Savior I conf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ll these idols out from my heart embr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I need your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broken scorned for 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m I that you would die to make me fr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ive me glory, (you) took the death and p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my Offe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. Rock of 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until the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 your will b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"It is done!" you cri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urtain's torn and I see justice satisf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write your mercy, on my heart and hand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in faith I st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my great hope secur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promise holds just like an anchor to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with cords of love and gr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we give you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. Rock of 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until the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 your will b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3:00Z</dcterms:created>
  <dc:creator>Zachary</dc:creator>
  <dc:description/>
  <dc:language>en-US</dc:language>
  <cp:lastModifiedBy>Zachary</cp:lastModifiedBy>
  <dcterms:modified xsi:type="dcterms:W3CDTF">2013-01-05T21:19:46Z</dcterms:modified>
  <cp:revision>5</cp:revision>
  <dc:subject/>
  <dc:title>The Sands of Time Are Sinking Words: Anne Cousin (based on Samuel Rutherford’s letters) Music: Philip Palmertree  ©2001 Phillip Palmertree Music</dc:title>
</cp:coreProperties>
</file>