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83F-FFD6-4ECE-8970-B910271C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C30-B5DA-49BB-B08C-2778A135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108-D811-4B17-B663-74FA44F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D18-705C-4FC7-A567-C56A4C4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949-BD5A-4C0C-8889-C1E602F0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75C-0C49-4A38-A7D7-A853FBE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7DE-57D2-484B-8EB8-0E2BAA61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214-EF82-4AFB-A638-27063E1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77B-3249-45EB-8B19-5925235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B6C-E823-4703-83BD-9340613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2B7-A46A-4D46-9131-906245A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14C-1EE2-4778-8955-D6B6D41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D621-F53F-4623-A25B-E07263AC71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joice the Lord Is K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 Music: John Darwell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1417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, the Lord is K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Lord and King ad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, give thanks and s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iumph evermo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189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Our Savio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d of truth and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had purged our st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ook His seat ab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cannot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rules over earth and hea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eys of death and h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o our Jesus gi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 in glorious hop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Lord the Judge shall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ake His serv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o their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14:40Z</dcterms:modified>
  <cp:revision>4</cp:revision>
  <dc:subject/>
  <dc:title>The Sands of Time Are Sinking Words: Anne Cousin (based on Samuel Rutherford’s letters) Music: Philip Palmertree  ©2001 Phillip Palmertree Music</dc:title>
</cp:coreProperties>
</file>