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16C-8453-451B-808A-C3192F2C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224-C466-46DA-A134-2E3D0A9B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E11-826B-4527-9E60-292555ED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BD0-587F-42AA-8551-183926A8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CD-4BC3-4D38-8BDE-B235CA62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EF0-C465-4C2D-869E-794B775A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08C-B01B-492E-A1CC-FBD9325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BD0-1DA2-44DA-AE9B-05026F98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8C2-244E-4978-AC1E-B6FC66AB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E37-62A7-4C0E-828C-37FEAB5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903-1974-4B63-A86F-C1FB44FA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B10-5330-447C-8EB8-688DC65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E158-1578-4580-9BA7-04DA7600CC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joice the Lord Is King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 Music: John Darwell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1417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, the Lord is King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Lord and King ad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, give thanks and s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iumph evermo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189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Our Savior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od of truth and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had purged our st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ook His seat ab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gdom cannot fai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rules over earth and hea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eys of death and h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o our Jesus giv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 in glorious hop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Lord the Judge shall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ake His serv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to their eternal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; rej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 I say, rejoic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13:00Z</dcterms:created>
  <dc:creator>Zachary</dc:creator>
  <dc:description/>
  <dc:language>en-US</dc:language>
  <cp:lastModifiedBy>Zachary</cp:lastModifiedBy>
  <dcterms:modified xsi:type="dcterms:W3CDTF">2013-01-05T21:14:40Z</dcterms:modified>
  <cp:revision>4</cp:revision>
  <dc:subject/>
  <dc:title>The Sands of Time Are Sinking Words: Anne Cousin (based on Samuel Rutherford’s letters) Music: Philip Palmertree  ©2001 Phillip Palmertree Music</dc:title>
</cp:coreProperties>
</file>