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176-E043-4099-B208-D04C1E32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5A2-5722-46ED-AA55-FC3E77FE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911-9586-44CA-9332-FC575C6C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4E0-FB69-43BE-8DE3-CB88791B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150-254C-424C-98E4-9D91D37B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633-2BC0-4891-A956-2D96A92F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EB6-BEA9-4E96-906F-FAA14FBB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B51-B2EA-45A6-9EC9-94809819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356-A795-4FB3-828E-5D0A4AC6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55E-6F2A-4E01-89CD-E084A7F6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5A5-BD5C-4EDF-9E74-8470551C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96B-F56C-476C-98C0-C34880A3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4D63-1A4C-495A-B12B-6F2C1CE57E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97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cottish Psalter adapted by Kevin Twit   Music: Kevin Twit ©1995 Kevin Twit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ll who love the Lord hate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e preserves His faithful 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ght is shed upon the j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joy upon the pure in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rk clouds encompass Hi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justice He sits upon His thron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e goes before Hi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foes it burns up all a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ghtning lightens up the 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arth she saw and shook through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untains, they all melt like w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e Lord of all the ea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eavens proclaim His righteous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eoples see His glory sh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who worship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put to shame with all their g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ion hears and sings for j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of all Your judgments,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You, oh Lord, are the Most Hi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ve all other so-called g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51:43Z</dcterms:modified>
  <cp:revision>11</cp:revision>
  <dc:subject/>
  <dc:title>O Help My Unbelief Words by Isaac Watts, Music by Justin Smith. © 2007 Justin Smith Music</dc:title>
</cp:coreProperties>
</file>