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DA7-7F5A-480A-851C-4FCB7424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7CE-A668-469E-8934-6279F4D0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86C-8942-4D39-9F9F-4E3C87E8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F27-81C6-4C5C-82E6-6306EC71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EA7-250B-4893-946A-F3B8FEEA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A78-A7E1-4729-9DF3-DB6D19D1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2BC-743F-496C-B0A3-329CEB5B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DFB-65A8-4793-91BE-4F1D4F2C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744-96C2-4291-8426-EA02B860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F97-5FA0-4951-9792-FEA63295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34F-3A9C-4B60-B0F7-CCE3FB8B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BA9-4FD0-4047-8B4F-D725B4AA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3E36-4D8A-421A-9C26-B3A1AE83FA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97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cottish Psalter adapted by Kevin Twit   Music: Kevin Twit ©1995 Kevin Twit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 who love the Lord hate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e preserves His faithful 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ght is shed upon the j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joy upon the pure in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k clouds encompass Hi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justice He sits upon His thron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e goes before Hi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foes it burns up all a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ghtning lightens up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arth she saw and shook through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untains, they all melt like w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the Lord of all the e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eavens proclaim His righteous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eoples see His glory sh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who worship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put to shame with all their g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ion hears and sings for j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of all Your judgments,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You, oh Lord, are the Most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ve all other so-called g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reigneth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God reigne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be glad and let the isles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1:43Z</dcterms:modified>
  <cp:revision>11</cp:revision>
  <dc:subject/>
  <dc:title>O Help My Unbelief Words by Isaac Watts, Music by Justin Smith. © 2007 Justin Smith Music</dc:title>
</cp:coreProperties>
</file>