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EE2-764E-4FE0-A172-CF8D0BD0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3AE-BCB6-4D24-B329-33B59A1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392-07C0-4347-AAA7-8C6CA5B8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46A-721E-4362-BAEC-1D424B9F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D5C-5072-401F-9602-8B48980D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61D-96DE-4CA2-8A2D-192CB245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B21-B54F-4528-A1E8-04C2405D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E66-02E0-49CF-BEA6-2531A94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D11-2BFA-4807-987B-4AD9FD8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0D2-EF6C-49C5-81CE-1C81078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58D-9B81-4256-859A-71D9B8C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842-E3E6-4EA2-AB16-F43C6B6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45AD-B547-42A7-A749-114C724D5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90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Kevin Twit   Music: Kevin Twit ©1995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hou hast been our dwelling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ll the ages of our r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he mountains had their bir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ever Thou hadst formed the ear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years which no beginning h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ears un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God, Thou art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urnest man to dust ag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y’st “Return ye sons of men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yesterday when past appea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are to Thee a thousand yea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, like a day, are in Thy sigh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like a pass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 my night, Thou art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us Lord to count our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t our heart on wisdom’s 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O Lord? Return, repe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ward Thy servants now rel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morning fill us with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’ll sing for joy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ur days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days we sp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affliction Thou hast s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years we evil k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make us glad our joy re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k in all Thy servants sh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on the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s bestow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us let there be shed ab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auty of the Lord our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andiwork upon us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d evermore by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let our handiwork now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d by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more, Thou art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0:17Z</dcterms:modified>
  <cp:revision>10</cp:revision>
  <dc:subject/>
  <dc:title>O Help My Unbelief Words by Isaac Watts, Music by Justin Smith. © 2007 Justin Smith Music</dc:title>
</cp:coreProperties>
</file>