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D35-41FC-4E15-AAA3-2B75E3A6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CF3-18B1-42BC-BDCE-6BC008B1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5AF-42A7-4E5B-9BA9-C4B8F712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F0A-4D61-45B7-8F59-B65DBEB6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693-3493-430C-98AC-CEF84DDF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65F-48F4-4306-915A-5326C94B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F30-54B9-4A84-94DF-03244733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4A7-6502-4C07-B68E-098DB86E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15B-9014-4232-A3BE-59DFB276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D33-8231-44D3-BA5C-B3583E4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CCA-8C97-4625-AD71-93258DB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344-BE58-454C-A8D1-4551364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443-7793-487A-A20B-DD3DBD90B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90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dapted by Kevin Twit   Music: Kevin Twit ©1995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hou hast been our dwelling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all the ages of our ra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the mountains had their bir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ever Thou hadst formed the ear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years which no beginning h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years un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God, Thou art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urnest man to dust ag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y’st “Return ye sons of men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yesterday when past appear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are to Thee a thousand year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, like a day, are in Thy sigh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like a pass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 my night, Thou art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ach us Lord to count our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et our heart on wisdom’s 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 O Lord? Return, repen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ward Thy servants now rel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morning fill us with Th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’ll sing for joy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ur days, Thou art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days we sp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affliction Thou hast s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years we evil k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make us glad our joy re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k in all Thy servants sh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on the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s bestow, Thou art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us let there be shed ab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eauty of the Lord our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andiwork upon us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blished evermore by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let our handiwork now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blished by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more, Thou art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0:17Z</dcterms:modified>
  <cp:revision>10</cp:revision>
  <dc:subject/>
  <dc:title>O Help My Unbelief Words by Isaac Watts, Music by Justin Smith. © 2007 Justin Smith Music</dc:title>
</cp:coreProperties>
</file>