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675D-4FD7-43FE-BA0A-C3A1C0850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4A51-591C-44D2-A79D-44F27F1B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8AC1-639E-4946-9543-BA18B7CA3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FF2A-D834-448A-A60E-25AB25531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8557-FD30-4883-ADE3-759C6A42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5482-13EC-4C6E-8F33-AF631CF2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2DE1-22CC-4E34-8180-47EFB9F7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772E-FFF3-499C-8BD3-373746FD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AC82-ABE8-4C0E-A20A-A17EC2AE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3B82-6BC5-424F-B761-DD99A034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7CDF-5E3A-4DFE-9726-41038950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B27C-724D-41EB-8B0E-9BA51492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0281-B5B2-4690-897E-ED90E0CC5E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salm 73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Kevin Twit and Mac Purdy  Music: Kevin Twit and Mac Purdy   ©1995 Kevin Twit Music / Mac Purdy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ely God is g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all the pure in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as for me, my feet had almost slipp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nearly lost my gr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I envied, the arrog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free, from my burd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rely I, in vain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ve kept my, my heart pur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urely they are strong and free from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ial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I am so confused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I entered Your holy plac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I saw their dest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rely, they’re cast do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those on slippery grou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dreams fade when we wake, so they bec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letely swept aw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my heart I was arroga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ke a beast before Y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t always You are ne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guide me by Your W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lways, my Lord God, You are my streng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portion You will 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’re my refuge, my Sovereign L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will sing of Your awesome dee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20:49:06Z</dcterms:modified>
  <cp:revision>9</cp:revision>
  <dc:subject/>
  <dc:title>O Help My Unbelief Words by Isaac Watts, Music by Justin Smith. © 2007 Justin Smith Music</dc:title>
</cp:coreProperties>
</file>