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6DB-81DE-4867-A599-740F4FDD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BCE-868D-46F6-9A2C-D70B0D25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1DE-AFFE-42CC-BF23-86127730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7A5-2D51-43C2-92EB-995D7BC7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6E9-10C5-414B-8E4C-7AC33368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8A7-DB87-4E10-BD8D-E4B1704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38E-EC35-4771-8594-CC8AC287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8C-7A68-4B18-87F8-FE327BB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37D-61B7-4EBD-AD12-42483DE8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E83-A8BD-4CF6-9D4C-E74A9DA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80A-4DEB-4BD9-9A47-A6A2673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21B-2DED-423B-98F4-8896C71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045-965C-4192-B6F1-94DCCA2DB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73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Kevin Twit and Mac Purdy  Music: Kevin Twit and Mac Purdy   ©1995 Kevin Twit Music / Mac Purd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God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l the pure in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me, my feet had almost sl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arly lost my g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envied, the arrog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ree, from my burd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 I, in va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kept my, my heart p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urely they are strong and free fro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a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I am so confus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entered Your holy plac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saw their de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, they’re cast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se on slippery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dreams fade when we wake, so they be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ly swept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heart I was arrog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a beast before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always You are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guide me by Your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ways, my Lord God, You are my 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ortion You will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’re my refuge, my Sovereign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of Your awesome dee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9:06Z</dcterms:modified>
  <cp:revision>9</cp:revision>
  <dc:subject/>
  <dc:title>O Help My Unbelief Words by Isaac Watts, Music by Justin Smith. © 2007 Justin Smith Music</dc:title>
</cp:coreProperties>
</file>