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36F-C85D-41AD-98DA-3D04F756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041-5E3F-43DD-8F42-BD6DC39D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8A2-00AB-4CD7-8CB0-2A07D1A9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F0A-DBBC-46EA-A869-C20251F8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291-F1BA-4932-9C59-0E3835D1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996-8EB2-489A-820E-2F8C3C48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673-4726-4348-B583-3EAE7B0C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13E-F245-4DDD-A533-6087546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55A-3DA9-4CDE-9E69-FD5BB4D3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D10-4865-4ADA-9054-64F0C0A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F68-9975-4FF7-A039-337C74B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83C-CBE8-478B-9805-466AA00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3097-2431-4B28-8FD9-E5A6F8478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5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dapted by Kevin Twit  Music: Kevin Twit   ©1995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is faith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ll of the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be fi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is righteou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is just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aking the tru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he who sla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those who ha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bring re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a fri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desp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who are v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onors th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fear the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ill stand 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to his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ill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a br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enter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may enter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who may d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house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In Your hous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Your mountai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on Your moun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ly hi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liv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Who can live, Lor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47:39Z</dcterms:modified>
  <cp:revision>8</cp:revision>
  <dc:subject/>
  <dc:title>O Help My Unbelief Words by Isaac Watts, Music by Justin Smith. © 2007 Justin Smith Music</dc:title>
</cp:coreProperties>
</file>