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56B-63C5-438C-8EF6-B58011A5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C0D-3CE2-430D-B67E-07C9BEE8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FEB8-2087-4625-B1C3-C597AB6D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B86D-4E9E-4AB0-A987-930456BB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D896-A5F5-483A-809E-FEBD969F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4665-A9A8-41D3-815E-10FA0E11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1E1-12CE-42D5-9A3E-FE65F007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82E-66CD-4BDD-82D9-08121D91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4714-24BF-44DB-A2C2-62917A3F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9DB-B984-43C9-B285-A29F3509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2076-C951-4729-A7E8-DDEF7465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DC5-C827-46B3-B607-9D48BE75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D29A-4FFE-455B-87C6-33F3553997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alm 15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Adapted by Kevin Twit  Music: Kevin Twit   ©1995 Kevin Twit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enter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may enter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d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Your house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In Your hous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n Your mountain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on Your mounta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holy hil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live?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can liv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is faithf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ll of the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ill be fir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 the 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enter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may enter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d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Your house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In Your hous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n Your mountain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on Your mounta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holy hil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live?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can liv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is righteou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is just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aking the tru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is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enter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may enter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d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Your house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In Your hous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n Your mountain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on Your mounta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holy hil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live?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can liv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he who slan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those who har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bring re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a fri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enter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may enter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d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Your house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In Your hous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n Your mountain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on Your mounta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holy hil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live?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can liv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desp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se who are v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honors tho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fear the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enter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may enter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d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Your house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In Your hous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n Your mountain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on Your mounta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holy hil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live?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can liv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will stand 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to his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will n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a br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enter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may enter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d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Your house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In Your hous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n Your mountain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on Your mounta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holy hil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live?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can liv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47:39Z</dcterms:modified>
  <cp:revision>8</cp:revision>
  <dc:subject/>
  <dc:title>O Help My Unbelief Words by Isaac Watts, Music by Justin Smith. © 2007 Justin Smith Music</dc:title>
</cp:coreProperties>
</file>