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CBF-3BDF-4063-A119-D06D9822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85C-00B8-44E0-8227-BF5F3586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5EC-EC3E-4A0A-915B-6B67923F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C43-DE79-451A-8FC8-F0C8BB1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3F5-4227-4B22-9485-C8A23741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C84-6DD0-463E-B592-36DD7BCB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008-DE16-436E-90D5-A5ACC391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236-C224-4735-8BC3-078B9834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B3B-02D9-48E4-9274-BEE75E1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C54-CCCA-4FCC-8A10-EECE8C10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EE4-250F-4DD3-B91A-AD4973B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D36-9DC3-44ED-BF33-EED9153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756-7EB9-4966-80ED-5426B230B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30 (From the Depths of Woe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Martin Luther Music: Chris Miner 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epths of woe I raise to Th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lament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urn a gracious ear to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ar my supplic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ou iniquities dost m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ecret sins and misdeeds d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ash away the crimson stai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, grace alone av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rks, alas! Are all in va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uch the best life f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n can glory in Thy s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ust alike confess Thy m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my trust is in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ot in mine own me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Him my soul shall rest, Hi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holds my fainting spi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omised mercy is my for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omfort and my sweet suppor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ough I wait the live-long n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’til the dawn appeare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till trusteth in His migh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ubteth not nor fear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us, O ye of Israel’s se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 of the Spirit born inde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great our sins and sore our w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race much more abound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helping love no limit know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pmost need it sound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hepherd good and true is H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at last His Israel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7:46Z</dcterms:modified>
  <cp:revision>14</cp:revision>
  <dc:subject/>
  <dc:title>O Help My Unbelief Words by Isaac Watts, Music by Justin Smith. © 2007 Justin Smith Music</dc:title>
</cp:coreProperties>
</file>