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B6B-E04E-4BC9-932F-E683D60A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8E8-EBAC-4D93-A5DE-590D7C97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C1D-E5AD-4CEE-864F-28C501C7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497-2829-47DE-ACD7-20C34588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579-ED81-4A37-879C-18CE7702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488-D9E3-4223-B1C9-CD8165C5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B86-9348-4B07-8CA4-B9788E0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1A1-F1F1-46F9-ADA0-67513778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380-3859-4DD5-B582-BB0B4898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43A-3244-4CBC-AB0B-CE02DFB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61A-ECC1-42FF-95BF-E522250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D2C-D4B5-4966-A533-DF1D1F8E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D99F-B49B-4BD4-86F4-85FC184B2C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130 (From the Depths of Woe)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Martin Luther Music: Chris Miner  ©1997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depths of woe I raise to Th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lament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turn a gracious ear to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ar my supplic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ou iniquities dost mar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ecret sins and misdeeds dar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who shall stand before Th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Who shall stand before The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who shall stand before Th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Who shall stand before The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ash away the crimson stai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e, grace alone avail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works, alas! Are all in va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uch the best life fail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n can glory in Thy s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ust alike confess Thy m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ve alone by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ive alone by mer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ve alone by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ive alone by mer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my trust is in the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not in mine own mer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Him my soul shall rest, His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holds my fainting spir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romised mercy is my for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comfort and my sweet suppor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it for it with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for it with pat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it for it with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for it with pat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ough I wait the live-long n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’til the dawn appearet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 still trusteth in His migh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ubteth not nor fear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us, O ye of Israel’s se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 of the Spirit born inde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it ’til God appear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’til God appear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it ’til God appear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’til God appear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great our sins and sore our w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grace much more abound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helping love no limit know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pmost need it sounde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hepherd good and true is H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ll at last His Israel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their sin and s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l their sin and sorr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their sin and s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l their sin and sorr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7:46Z</dcterms:modified>
  <cp:revision>14</cp:revision>
  <dc:subject/>
  <dc:title>O Help My Unbelief Words by Isaac Watts, Music by Justin Smith. © 2007 Justin Smith Music</dc:title>
</cp:coreProperties>
</file>