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0883-FD17-4D80-94DD-493D28BF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79EF-4CA7-4560-8029-59078D17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0E7-FCD4-46D3-9EDD-7D70B4A4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8A9E-4C5E-4808-8A97-B460950C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F9F3-CFEA-4F54-B77D-D029E6E6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4BC-42FD-4FF1-A12B-9F4DAA84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A147-3402-4CC0-8EF6-45F7939E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40CF-998F-4320-9BAF-C3A3C132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717-17DE-4358-BEEC-BA0E02FE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7CD-1757-4950-AEE7-06AE128B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4BA2-FCFC-407C-AD99-9CA88A57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26FA-D95E-4748-B12A-0C58A02A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30BF-FBC6-4860-9682-428D9E2F81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alm 130 (From the Depths of Woe)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Martin Luther Music: Chris Miner  ©1997 Christopher Miner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depths of woe I raise to Th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oice of lamentat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turn a gracious ear to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ar my supplicat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ou iniquities dost mark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secret sins and misdeeds dark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 who shall stand before The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Who shall stand before Thee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 who shall stand before The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Who shall stand before Thee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ash away the crimson stai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ce, grace alone availe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works, alas! Are all in vai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uch the best life faile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an can glory in Thy sig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ust alike confess Thy mig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ive alone by mer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Live alone by mer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ive alone by mer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Live alone by mer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my trust is in the Lor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not in mine own meri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Him my soul shall rest, His 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holds my fainting spiri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romised mercy is my for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comfort and my sweet suppor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it for it with pat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it for it with pati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it for it with pat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it for it with pati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ough I wait the live-long nig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’til the dawn appearet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heart still trusteth in His migh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doubteth not nor feare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thus, O ye of Israel’s see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 of the Spirit born indee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ait ’til God appeare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it ’til God appear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ait ’til God appeare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it ’til God appear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great our sins and sore our w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grace much more abounde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helping love no limit know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upmost need it sounde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Shepherd good and true is H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ill at last His Israel 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ll their sin and sor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ll their sin and sorr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ll their sin and sor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ll their sin and sorr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57:46Z</dcterms:modified>
  <cp:revision>14</cp:revision>
  <dc:subject/>
  <dc:title>O Help My Unbelief Words by Isaac Watts, Music by Justin Smith. © 2007 Justin Smith Music</dc:title>
</cp:coreProperties>
</file>