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0ADC-652E-44BC-90AC-1DD03A90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90EE-277F-4370-98D8-7B3793CA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3EAC-C6D4-4B75-A115-117F10F8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BD79-D306-4683-9ABA-6FC2E9C13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6981-49A7-45F6-9F53-ECEEE4AD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5D4F-CA75-404C-9961-4C6A0281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7654-999D-4AC2-AB93-45D7828F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5AAE-4F06-4DAD-957D-D1195713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C435-0A26-46F0-9ECE-5C20EA9E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AC77-0C7A-41D6-83CB-D15213CA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7976-480A-454A-AEC7-8698B3B9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153D-26B7-4303-A818-09B4F4F1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A6EF-3F2D-49CC-B381-D5A1F1D1B8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salm 130 (From the Depths of Woe)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Martin Luther Music: Chris Miner  ©1997 Christopher Miner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e depths of woe I raise to Th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voice of lamentatio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, turn a gracious ear to 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ar my supplicatio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ou iniquities dost mark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secret sins and misdeeds dark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 who shall stand before The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(Who shall stand before Thee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 who shall stand before The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(Who shall stand before Thee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wash away the crimson stai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ce, grace alone availeth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works, alas! Are all in vai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uch the best life faileth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man can glory in Thy sigh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ust alike confess Thy migh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live alone by mer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Live alone by merc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live alone by mer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Live alone by merc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my trust is in the Lor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not in mine own meri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Him my soul shall rest, His 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holds my fainting spiri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promised mercy is my for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comfort and my sweet suppor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ait for it with pat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ait for it with pati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ait for it with pat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ait for it with pati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hough I wait the live-long nigh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’til the dawn appeareth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heart still trusteth in His migh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doubteth not nor feareth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thus, O ye of Israel’s see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 of the Spirit born indeed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ait ’til God appeare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ait ’til God appeare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ait ’til God appeare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ait ’til God appeare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gh great our sins and sore our wo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grace much more aboundeth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helping love no limit know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upmost need it sounde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Shepherd good and true is H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will at last His Israel f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all their sin and sor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ll their sin and sorrow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all their sin and sor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ll their sin and sorrow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20:57:46Z</dcterms:modified>
  <cp:revision>14</cp:revision>
  <dc:subject/>
  <dc:title>O Help My Unbelief Words by Isaac Watts, Music by Justin Smith. © 2007 Justin Smith Music</dc:title>
</cp:coreProperties>
</file>