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C1C-93FE-4DB7-933C-B4C8C17E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D13-1D8E-4B43-90D9-FD648ECF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6F5-57EB-4D2D-A92D-81928B70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1C4-E4B9-4E6B-B85B-FD25F56F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537-8B38-4EE3-B22F-FF7C711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61B-46B4-4380-B4F8-594920D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C68-38C2-4931-8A5E-F3E6655A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363-7402-4EB7-83E3-6DA6EDC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405-F833-49AE-AEE9-F115551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F40-3DD3-4E0E-93B5-0FC9C0C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7EF-132B-421F-AF33-4BAD4A4D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247-E27B-4D63-9394-6732E7B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7934-1373-4A52-9922-68F03CF78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28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cottish Psalter Music: Scottish Psalter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the man that fears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alketh in His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shalt eat of thy hands’ lab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 prospered all thy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a vine with fruit ab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thy house thy wife i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like olive plants, thy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ssing thy table ’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on him that fears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is blessedness at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Jehovah, out of Z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o thee His blessings s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see Jerus’lem pros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days ’til life shall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see thy children’s child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Israel be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the man that fears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walketh in His w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on him that fears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is blessedness att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4:34Z</dcterms:modified>
  <cp:revision>13</cp:revision>
  <dc:subject/>
  <dc:title>O Help My Unbelief Words by Isaac Watts, Music by Justin Smith. © 2007 Justin Smith Music</dc:title>
</cp:coreProperties>
</file>