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865-44B7-497B-9CAD-79540A71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B74-1BD3-49CA-8DF7-50B62809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F9B-34CF-48B1-B17C-09C21E13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B37-86F4-4371-A431-EC73C0F7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40B-405A-4DC2-9A6C-AA32AE89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14A-F067-4569-AC48-9CA91915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837-87E3-42E4-BD44-2C18EF3F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ED0-46FD-4297-8D85-79CC47D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5FE-C911-464F-B7AD-0B105F18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AF2-1CA1-44FB-836B-5F36B88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C7C-F7DC-4576-A666-10D7F82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97C-3439-4410-AD4B-B18AD6BB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6F16-63B5-4F34-98DB-5574857FA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28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cottish Psalter Music: Scottish Psalter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the man that fears Jehov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at walketh in His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shalt eat of thy hands’ lab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e prospered all thy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a vine with fruit ab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 thy house thy wife is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like olive plants, thy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ssing thy table ’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, on him that fears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his blessedness at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Jehovah, out of Z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o thee His blessings s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see Jerus’lem pros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days ’til life shall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see thy children’s child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Israel be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the man that fears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walketh in His w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, on him that fears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his blessedness att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4:34Z</dcterms:modified>
  <cp:revision>13</cp:revision>
  <dc:subject/>
  <dc:title>O Help My Unbelief Words by Isaac Watts, Music by Justin Smith. © 2007 Justin Smith Music</dc:title>
</cp:coreProperties>
</file>