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870-1824-400D-BC0F-AC46F218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A47-328F-459B-8F97-A9C0F327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B24-0512-4E2E-8F03-72B8CEC1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DEB-5CED-4361-9FE8-334EE9F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072-A107-463B-8240-E91C41E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9F6-BC3D-4445-B8AD-B6D1BEFA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E7C-AFC9-4837-8B57-37EDE2A8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BF4-7145-4645-A230-2CB2666F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E6A-0A2D-4619-9B05-0BCA66CD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782-DB31-4CCA-865B-E4D6DE6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D15-1798-4600-A0CE-4B789CE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1B5-E62D-4B80-931B-ADE94A7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B9F0-CC95-4F9A-B7FE-3037510F4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alm 121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dapted by Darwin Jordan Music: Darwin Jordan  ©1981 Darwin Jordan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ift up my eye to the mountai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ence shall my help c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lp comes from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made heaven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not allow your foot to slip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keeps you will not slumber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, He Who keeps Israel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neither slumber nor slee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is your keep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is your shade on your right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n will not smite you by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the moon by n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will guard you from all evi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keep your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will guard your going out and your coming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is time forth and forev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lift up my eye to the mountain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whence shall my help co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lp comes from the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53:30Z</dcterms:modified>
  <cp:revision>12</cp:revision>
  <dc:subject/>
  <dc:title>O Help My Unbelief Words by Isaac Watts, Music by Justin Smith. © 2007 Justin Smith Music</dc:title>
</cp:coreProperties>
</file>