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449-E114-4B95-91C1-ABCEE10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73F-C39B-45D4-8546-029DF45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145-2EF5-425C-8659-7F73E0E3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862-17B5-4EFB-B054-9A171F4D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F9D-82DF-469B-87C2-254CCDF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5EC-858E-4C47-98AD-7ABE158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2A7-2BEB-4045-A6DF-5B0055F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9A8-2BC3-4F4A-B5C1-9BC7AB7B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B09-230D-438F-9837-7B5B285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E85-A627-437B-92F6-0935E81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C51-BD48-4E48-B273-0C22050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B5C-991C-4170-8D5F-8287E926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2F6-2C97-4A59-A070-67A4EA7FC6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21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Darwin Jordan Music: Darwin Jordan  ©1981 Darwin Jordan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ift up my eye to the mountai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ence shall my help c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lp comes from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ade heaven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 allow your foot to slip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keeps you will not slumb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, He Who keeps Israel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neither slumber nor slee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is your keep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is your shade on your right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n will not smite you by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the moon by n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will guard you from all evi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keep your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will guard your going out and your coming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 time forth and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ift up my eye to the mounta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whence shall my help co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lp comes from the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3:30Z</dcterms:modified>
  <cp:revision>12</cp:revision>
  <dc:subject/>
  <dc:title>O Help My Unbelief Words by Isaac Watts, Music by Justin Smith. © 2007 Justin Smith Music</dc:title>
</cp:coreProperties>
</file>