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679-BFC3-461C-9F8E-BABA038D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BFF-355A-40F4-9D9F-F296FD60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570-749E-4DD0-960F-74C0BE8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C40-215E-488B-82B8-01172B74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F85-2D8B-439E-94B1-80EF819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ED5-7C71-4388-B405-CC7139F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9BA-3475-438B-AFAF-370C7D77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65E-E78B-40AE-9985-E04517E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800-F07D-45A0-B9F1-B30F0C7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695-0D27-4598-9E62-37B5CEE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8BC-A87A-425D-8ED9-728B64F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EFC-5B21-4BD4-8258-6B7DB27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71E7-2D73-4A00-A7D6-A6F91A717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to the Lord the Almight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achim Neander   Music: 1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entury German Tune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lmighty, the King of cre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is thy health and salv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e who h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o His temple draw n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in glad ado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over all things so wondrously reign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lters thee under His wing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so gently sustainet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t s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ll your longings have b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ed in what He ordaine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oth prosper thy work and defen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 His good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rcy here daily atte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nder a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he Almighty can 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with His love He befrie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all that is in me adore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hath life and br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now with praises before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A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from His people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adly for aye we adore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4:26Z</dcterms:modified>
  <cp:revision>7</cp:revision>
  <dc:subject/>
  <dc:title>O Help My Unbelief Words by Isaac Watts, Music by Justin Smith. © 2007 Justin Smith Music</dc:title>
</cp:coreProperties>
</file>