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353-F907-45DF-ADCD-C46BCAEE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924-6815-4588-8960-F401AAE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D8C-CC52-4AF2-90B3-0DFCF4CA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586-2BB7-4389-8DDF-B188B343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24A-E6C4-4CE0-AD1C-8BA09D30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F18-0CA6-4A98-86BC-7646BA0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B0A-8DE9-42E2-B080-4F32D9AE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C5D-14F5-4E08-BB57-417695C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BA6-95C7-4A8B-8DAE-EFD90081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FC3-BB36-4397-BA9B-3BA51F0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BA7-8204-4E43-8A4E-4E893A2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3BE-804D-4A9C-8E23-16F5F42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02E-5EE3-4E1D-B5AB-2CA622060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to the Lord the Almight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achim Neander   Music: 1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entury German Tune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lmighty, the King of cre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is thy health and salv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e who h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o His temple draw n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in glad ado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over all things so wondrously reign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lters thee under His wing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so gently sustainet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t s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ll your longings have b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ed in what He ordaine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oth prosper thy work and defen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 His good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rcy here daily atte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nder a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he Almighty can 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with His love He befrie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all that is in me adore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hath life and br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now with praises before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A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from His people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adly for aye we adore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4:26Z</dcterms:modified>
  <cp:revision>7</cp:revision>
  <dc:subject/>
  <dc:title>O Help My Unbelief Words by Isaac Watts, Music by Justin Smith. © 2007 Justin Smith Music</dc:title>
</cp:coreProperties>
</file>