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5F0-BE67-45A8-97AE-0BDD5A44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0A0-A868-46C1-95BD-653659D8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93B-CF0C-4A54-86A7-09CEEA7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0C4-9052-4575-B417-A64AF3DF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6A4-3956-4534-B03F-93D7FEAA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7D2-182C-45FC-8806-65EEDDA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050-6119-426F-A16B-99F870E4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EA5-6661-4B3E-B4B3-7480B547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053-78F0-4C56-BF22-15BA56D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863-BDE2-4937-87FB-E6C0F674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B8D-B19B-4A41-8171-723839D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5D5-CE8C-44BE-B9A9-03A43D0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6EA7-933E-4C14-96D5-BC736CA9C2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My Soul the King of Heav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Lyte   Music: Chris Miner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my soul, the King of heav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s feet thy tribute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somed, healed, restored, forgi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ike me His praise should s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everlasting 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for His grace and fav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fathers in dist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still the same for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ow to chide, and swift to bl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in His faithful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as summer’s flower we flou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ws the wind and it is g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ile mortals rise and pe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endures unchanging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high eternal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like He tends and spares 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our feeble frame He Kn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ands He gently bears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cues us from all our f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dely as His mercy g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help us to adore Hi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ehold Him face to f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bow down befor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wellers all in time and sp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with us the God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5:32Z</dcterms:modified>
  <cp:revision>6</cp:revision>
  <dc:subject/>
  <dc:title>O Help My Unbelief Words by Isaac Watts, Music by Justin Smith. © 2007 Justin Smith Music</dc:title>
</cp:coreProperties>
</file>