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1D9-4154-4572-B93A-6B94C525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4D1-5C13-4C61-B2F5-3C6547A5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F6A-8304-44F0-9932-584A0DF0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6DC-C41A-430D-9C52-DC465B7D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380-B966-4ADB-8EFF-E72709D0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3F5-75B9-4050-B16C-9DA2A1F5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9D1-E89A-42AE-A005-E6B95A1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CA6-FFD7-4D7C-8B3E-345B0B67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03D-8DAF-4826-B4F3-57007106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12D-57C7-4132-9B7C-25704AEB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10F-03E3-4B6C-8DB6-4E1E97A3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EA0-1E9E-4466-A612-6BAE43F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5E1A-BF81-46BA-A3E6-AA152606F3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My Soul the King of Heave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Lyte   Music: Chris Miner ©1997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, my soul, the King of heave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s feet thy tribute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somed, healed, restored, forgiv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ike me His praise should s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everlasting 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for His grace and fav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fathers in dist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still the same fore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low to chide, and swift to bl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in His faithful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il as summer’s flower we flour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ws the wind and it is g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ile mortals rise and per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endures unchanging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high eternal 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like He tends and spares 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our feeble frame He Kn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hands He gently bears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cues us from all our f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dely as His mercy g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gels help us to adore Hi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behold Him face to f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nd moon, bow down befor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wellers all in time and sp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with us the God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15:32Z</dcterms:modified>
  <cp:revision>6</cp:revision>
  <dc:subject/>
  <dc:title>O Help My Unbelief Words by Isaac Watts, Music by Justin Smith. © 2007 Justin Smith Music</dc:title>
</cp:coreProperties>
</file>