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A65-917D-428B-9051-2F15730E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FCF-958D-4A19-BBE0-3288BDFF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6F45-7F28-420B-B4EB-91BC3247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004-3C4F-4BD5-A349-092D3334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87E-0F9B-472D-AD25-02B378CD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261-00B4-422D-926A-4187B640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3A3-821E-4206-A9B6-9F7760C0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F1E-0A16-44BF-8CFE-0BE6F038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A61-F313-44E7-BAB5-81B41A0D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036-23E4-4607-B141-CA8258A0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BB2-E471-4443-A5D8-69A1D85A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FB8-FA27-4B3C-9C9A-BFD5769C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6CF6-112F-4478-9FE7-92EADBE5D4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ise My Soul the King of Heaven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nry Lyte   Music: Chris Miner ©1997 Christopher Miner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, my soul, the King of heave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is feet thy tribute b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nsomed, healed, restored, forgiv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ike me His praise should s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he everlasting K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 for His grace and fav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our fathers in distr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 still the same forev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low to chide, and swift to bl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ious in His faithfuln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il as summer’s flower we flour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ws the wind and it is g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hile mortals rise and per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endures unchanging 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he high eternal 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like He tends and spares u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 our feeble frame He Kn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s hands He gently bears u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cues us from all our fo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dely as His mercy go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gels help us to adore Him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behold Him face to fa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n and moon, bow down befor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wellers all in time and sp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prais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with us the God of gr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15:32Z</dcterms:modified>
  <cp:revision>6</cp:revision>
  <dc:subject/>
  <dc:title>O Help My Unbelief Words by Isaac Watts, Music by Justin Smith. © 2007 Justin Smith Music</dc:title>
</cp:coreProperties>
</file>