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8BA-5FB5-46C7-AD31-89D1CDE8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A17-2146-4A29-BC61-C73BD7F6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DE48-92CE-4D26-97F4-2DE50E72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107-7B29-4CBC-99CD-B7102702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291-3872-4CED-AF80-AD4AC88D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4E5-4301-42FE-8F3C-AA8EABE8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9D6-D100-4EA2-97DE-6D8490E5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FE0-2665-42AB-9B7C-909B3AF1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075-12C6-4F7E-BD4C-7659D574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32F-5F94-42E3-B57C-B542AC2C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486-F58D-4595-890D-B70ECA78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459-02DB-491B-84EC-F099E8E9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04A5-2C37-4B40-B9C8-CFAAF0FE4A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ise My Soul the King of Heave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nry Lyte   Music: Chris Miner ©1997 Christopher Miner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, my soul, the King of heave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is feet thy tribute b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nsomed, healed, restored, forgiv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ike me His praise should s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he everlasting K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 for His grace and fav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our fathers in distr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 still the same forev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low to chide, and swift to bl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ious in His faithfuln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il as summer’s flower we flour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ws the wind and it is g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hile mortals rise and per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endures unchanging 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he high eternal 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like He tends and spares u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 our feeble frame He Kn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s hands He gently bears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cues us from all our fo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dely as His mercy go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gels help us to adore Him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behold Him face to fa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n and moon, bow down befor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wellers all in time and sp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with us the God of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15:32Z</dcterms:modified>
  <cp:revision>6</cp:revision>
  <dc:subject/>
  <dc:title>O Help My Unbelief Words by Isaac Watts, Music by Justin Smith. © 2007 Justin Smith Music</dc:title>
</cp:coreProperties>
</file>