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4BE-BAEF-493F-81AD-764A50AF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8A9-6212-4209-B5A2-5FEC98D1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CD7-941B-4FC2-9721-7F1B0EBD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737-BCF8-4245-832B-FE149B2D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697-5D57-4AF2-814A-B5EA2A8D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8B8-E98E-4D37-86AD-B099AE13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457-1413-476D-9460-F8281270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135-30B9-468C-A365-B2EEBAF0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4ED-47E6-4887-889F-3A607C53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832-542A-4E6A-A0C2-EAA916B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D8E-F0EE-4A56-B3A2-8C82534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868-DECA-488F-BE92-23517A1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FFAF-37BC-4FD1-BEBB-32674B24BA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or Sinner Dejected with Fear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Gadsby   Music: Katy Bowser and Matthew Perryman Jones ©2001 MPJ Music / Velveteen So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or sinner, dejected with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bosom thy mind to the Lamb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wrath on His brow He does w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ll He poor mourners condem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arm of omnipotent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able and willing to sa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weet and a permanent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freely and faithfully g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just as thou art, with thy wo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ll down at the feet of the Lamb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not, He cannot say, “Go”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urely will take out thy sta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ountain is opened for s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ousands its virtues have prove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take thee, and plunge thee there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sh thee from filth in Hi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oul that on Jesus rel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never, no never decei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freely and faithfully g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blessings than we can concei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down to old age He will keep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ll He forsake us at la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knows and is known by His shee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’re His, and He will hold them f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12:08Z</dcterms:modified>
  <cp:revision>5</cp:revision>
  <dc:subject/>
  <dc:title>O Help My Unbelief Words by Isaac Watts, Music by Justin Smith. © 2007 Justin Smith Music</dc:title>
</cp:coreProperties>
</file>