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B7B-426B-4A68-9520-30EFB8F3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9BE-9338-49A3-ADB6-1796C06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2FD-7918-4F17-AE4C-0E72226E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B9C-4D95-49F7-980B-88E2989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16B-90E7-457C-9E87-45CCBD7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88F-B6F5-466A-B1F4-A24ABD7A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570-23E9-40C6-BE61-694171C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DEB-AADC-423F-9879-0403ED93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D8E-1F86-4572-BB0A-2CC64E0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F39-C9F4-49FF-A619-20C718E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D84-1462-4B6C-91FA-47BC538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8C8-4413-4FDD-A55F-367C207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083-2B03-4511-9EA6-627A2D147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or Sinner Dejected with Fea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 Music: Katy Bowser and Matthew Perryman Jones ©2001 MPJ Music / Velveteen So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sinner, dejected with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bosom thy mi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wrath on His brow He does w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poor mourners condem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rm of omnipotent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ble and willing to sa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weet and a permanent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freely and faithfully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just as thou art, with thy wo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 down at the feet of the Lamb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, He cannot say, “Go”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urely will take out thy st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ountain is opened for s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sands its virtues have prov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take thee, and plunge thee there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sh thee from filth in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ul that on Jesus re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never, no never dece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reely and faithfully g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blessings than we can conce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down to old age He will keep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forsake us at l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knows and is known by His shee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’re His, and He will hold them f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2:08Z</dcterms:modified>
  <cp:revision>5</cp:revision>
  <dc:subject/>
  <dc:title>O Help My Unbelief Words by Isaac Watts, Music by Justin Smith. © 2007 Justin Smith Music</dc:title>
</cp:coreProperties>
</file>