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DD1-A07F-4703-80C4-EC98B0F5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7EAF-E85D-4B7A-BA79-9BE4E9EC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9DFC-C699-4786-952F-3AC55AF4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FFDE-BAC9-44F5-A40F-678342F0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D001-EAF6-46E6-8D92-64C70157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DC17-5565-46A3-AA08-1306EABE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F38C-F2B4-4CF7-B7AE-B4BDAA2E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B253-78FB-4C85-A0F6-F58FA835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31B3-8316-4884-AB0A-61EA24CF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0C6-E961-44F5-901D-CDA24753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0191-06C8-4341-9672-69E7C555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71C1-1C0D-4E9B-9D36-00D97A28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0975-324B-4FD0-A939-CB43B359CB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ensive Doubting Fearful Heart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John Newton   Music: Justin Smith ©2012 Justin Smith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sive, doubting, fearful he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r what Christ the Savior say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y word should joy imp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thy mourning into prai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, he speaks, and speaks to th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he help thee to believ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thou presently wilt se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st little cause to grie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Fear thou not, nor be asham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y sorrows soon shall 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ho heaven and earth have fram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 thy husband and thy fri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the High and Holy O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rael's GOD by all ador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thy Savior will be know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Redeemer and thy Lord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a moment I withdre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y heart was filled with p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my mercies I'll rene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shalt soon rejoice aga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I scorn to hide my f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ery soon my wrath shall cea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but for a moment's sp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ding in eternal peace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my peaceful bow appea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inted on the watery clou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to dissipate thy fear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t the earth should be overflow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an emblem too of gr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my cov'nant love a sig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the mountains leave their pl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shalt be forever mi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afflicted, tempest-tosse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fortless awhile thou ar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not think thou canst be los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rt graven on my hear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y walls I will repai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shalt be rebuilt anew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 thee it shall appea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 God of love can d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5T20:10:39Z</dcterms:modified>
  <cp:revision>4</cp:revision>
  <dc:subject/>
  <dc:title>O Help My Unbelief Words by Isaac Watts, Music by Justin Smith. © 2007 Justin Smith Music</dc:title>
</cp:coreProperties>
</file>