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C0A-C118-4508-ABF3-182B0CF6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302-C167-4DC3-AF3B-66799728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47C-1CA1-4F16-B91B-A2B4ED14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B63-D7F9-4CB0-9506-C5E5E0C2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01D-2AA4-439F-8F95-8D7C9460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EC1-EC11-4C23-B106-82AA440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556-D56F-4EAE-8683-918BD851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7A4-7B92-4218-872C-1C254E6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2F1-BE3F-4EDE-9887-6F6021FA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5EC-5346-4663-9002-3292437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3EF-22FB-4B19-ABB5-56582986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1AF-F178-4B18-9AA8-AAB52C8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8249-58D2-4674-BB73-A03DF73336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nsive Doubting Fearful Heart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Newton   Music: Justin Smith ©2012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sive, doubting, fearful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what Christ the Savior s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word should joy im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y mourning into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he speaks, and speaks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he help thee to believ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hou presently wilt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little cause to grie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Fear thou not, nor be asham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sorrows soon shall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ho heaven and earth have fram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 thy husband and thy fri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he High and Holy 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ael's GOD by all ador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y Savior will be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Redeemer and thy Lord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 moment I withdre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y heart was filled with p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my mercies I'll rene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soon rejoice ag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I scorn to hide my f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y soon my wrath shall c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but for a moment's sp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ing in eternal peac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y peaceful bow app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ted on the watery clou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o dissipate thy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t the earth should be overflow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an emblem too of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y cov'nant love a s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mountains leave their pl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be forever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afflicted, tempest-to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fortless awhile thou 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think thou canst be lo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graven on my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walls I will repai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be rebuilt ane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ee it shall app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 God of love can 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10:39Z</dcterms:modified>
  <cp:revision>4</cp:revision>
  <dc:subject/>
  <dc:title>O Help My Unbelief Words by Isaac Watts, Music by Justin Smith. © 2007 Justin Smith Music</dc:title>
</cp:coreProperties>
</file>