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6CC4-4B67-44F1-80CC-2858A4B67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A427-759E-41F8-9CA5-3C36DA0A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3687-2A7C-4917-A6AC-36E37EDDE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AE31-0597-44E3-BDFE-EE21CA241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232F-E642-4543-A081-59653DAF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5C65-8030-4D4F-AD22-FE60F7B2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5D54-9B02-45D1-9E1F-A84DFE7C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BA3B-50F7-4562-8046-1D2FA399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D142-B670-4834-93B2-9D541554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2B60-0E29-4E81-BB8D-8DB1A58B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0F38-E240-42F3-B824-F9F95EE6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0FF3-3660-42D1-9164-CE4F8065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B5EF8-1BCD-4DDE-81F8-30DE95A53B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 Worship the King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Robert Grant   Music: Johann Haydn Public Doma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worship the K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glorious abov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gratefully sing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power and His lov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Shield and Defender,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Ancient of Day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vilioned in splendor,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girded with prai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tell of His might, 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sing of His grace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se robe is the light, 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se canopy space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se chariots of wrath 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deep thunderclouds form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dark is His path 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the wings of the stor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bountiful care, 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tongue can recite?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breathes in the air, 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shines in the light;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streams from the hills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descends to the plain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weetly distill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e dew and the rai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ail children of dust, 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nd feeble as frail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ee do we trust, 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 find Thee to fail;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mercies how tender, 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firm to the end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Maker, Defender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deemer, and Frie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56:45Z</dcterms:created>
  <dc:creator>Zachary</dc:creator>
  <dc:description/>
  <dc:language>en-US</dc:language>
  <cp:lastModifiedBy>Zachary</cp:lastModifiedBy>
  <dcterms:modified xsi:type="dcterms:W3CDTF">2013-01-05T19:56:57Z</dcterms:modified>
  <cp:revision>13</cp:revision>
  <dc:subject/>
  <dc:title>O Help My Unbelief Words by Isaac Watts, Music by Justin Smith. © 2007 Justin Smith Music</dc:title>
</cp:coreProperties>
</file>