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678-CABD-4F46-83ED-987D2BA7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179-C4C8-4948-B94F-F58B91E2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D87-8DE1-4657-851B-E2FFE301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069-B60F-43EF-A7C8-BC53C314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4F1-01D2-4D3B-A573-21B97500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BCA-BD40-4280-B6D2-358E2ABE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7A7-D431-409F-843F-95669F77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DBE-279F-42B2-B675-77A805A0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F87-4ECF-49C8-9C96-50E3C2AF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B55-7DAB-48E5-BC85-330EEFDF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D37-F78F-473B-94E1-E254E77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4C8-DE97-456F-98D6-005DDD95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50CB-6F8A-42FF-8335-20700ABA8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Worship the King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Robert Grant   Music: Johann Haydn Public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orship the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glorious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atefully sing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power and His lov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hield and Defender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cient of Day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vilioned in splendor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irded with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ll of His might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ing of His gr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robe is the light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anopy spac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hariots of wrath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ep thunderclouds for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ark is His path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wings of the st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bountiful care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ongue can recite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breathes in the air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hines in the light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treams from the hill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descends to the plai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weetly distill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dew and the r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il children of dust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nd feeble as frail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e do we trust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ind Thee to fail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ies how tender,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firm to the end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Maker, Defende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er, and Fri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19:56:57Z</dcterms:modified>
  <cp:revision>13</cp:revision>
  <dc:subject/>
  <dc:title>O Help My Unbelief Words by Isaac Watts, Music by Justin Smith. © 2007 Justin Smith Music</dc:title>
</cp:coreProperties>
</file>