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1A1-01A3-4947-B055-C620AB73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7AA-91B9-47B7-89C9-33C9554C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A38-FBCE-4E47-9B9C-3CC06D01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10E-E84F-49E5-8E4B-3DFC8255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F24-9BE0-4EC0-A82F-3D27339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E11-C00B-4A3F-921D-56F9F9F8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D02-B88E-4BBF-BEA2-82399DB6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9CA-05D6-4AA9-BF56-ACBFF878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58C-4408-46F0-8631-0C3EF4E9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869-AE59-47D0-925B-7EF8A73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54C-C6B9-42AF-ACA6-07446D1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6B6-BB23-49C4-8061-EE34581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E9F7-905D-4B3D-826D-2E6C7FC08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Word of God Incarnat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How   Music: Bobby Guy © Bobby Gu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rd of God incarna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isdom from on hig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ruth unchanged, unchang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ight of our dark sk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praise Thee for the radi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rom the hallowed pag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antern to our footstep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ines on from age to 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from her dear Mast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ved the gift divin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the light she lifte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’er all the earth to shin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golden caske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gems of truth are store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heav’n-drawn pictu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Christ, the living W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floateth like a bann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God’s host unfurle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hineth like a beac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the darkling worl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chart and compas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o’er life’s surging sea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Mid mists and rocks and quicksand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guides, O Christ,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ke Thy church, dear Savio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amp of purest gol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before the n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rue light as of ol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ach Thy wand’ring pilgrim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s their path to tr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l, clouds and darkness ende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ee Thee face to 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4:12Z</dcterms:modified>
  <cp:revision>12</cp:revision>
  <dc:subject/>
  <dc:title>O Help My Unbelief Words by Isaac Watts, Music by Justin Smith. © 2007 Justin Smith Music</dc:title>
</cp:coreProperties>
</file>