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AE36-4DCB-4FCB-83EC-8845398FA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1F45-0455-4BC4-9595-4B42E275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D53F-71B3-430A-BC01-BF80C7D4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C1F1-5305-443D-9028-9C05CD0CA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116C-BD93-4231-9771-4DC2C12D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668C-9DB6-45A8-82E0-BEFD9A12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B03B-3944-4ACC-95BE-9738FF4C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54DE-AA09-4AE8-A558-FAA5951A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48BE-D13A-47AA-B5C5-DAFA54B0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338D-10FE-4410-AAA8-9C1AB747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7822-4898-411B-8687-2157B6A0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C355-40E1-48FE-8478-CAF23E69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2034-876E-4020-A05B-5CDECB138C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 Word of God Incarnate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William How   Music: Bobby Guy © Bobby Guy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Word of God incarnat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wisdom from on high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truth unchanged, unchang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ight of our dark sk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praise Thee for the radi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from the hallowed pag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lantern to our footstep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ines on from age to ag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hurch from her dear Master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ceived the gift divine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till the light she lifteth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’er all the earth to shine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the golden casket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gems of truth are stored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the heav’n-drawn pictur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Christ, the living Wor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floateth like a banner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fore God’s host unfurled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shineth like a beacon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bove the darkling world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the chart and compas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o’er life’s surging sea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Mid mists and rocks and quicksands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ill guides, O Christ, to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make Thy church, dear Savior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lamp of purest gold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bear before the nation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true light as of old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teach Thy wand’ring pilgrim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this their path to trace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Til, clouds and darkness ended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see Thee face to f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19:54:12Z</dcterms:modified>
  <cp:revision>12</cp:revision>
  <dc:subject/>
  <dc:title>O Help My Unbelief Words by Isaac Watts, Music by Justin Smith. © 2007 Justin Smith Music</dc:title>
</cp:coreProperties>
</file>