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8CC-18D2-4029-9A6C-1B5A4D3E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BC0-7B34-4765-9A40-5A0740B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860-C082-4562-8673-ED39B745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CD3-C179-44E8-9C13-BC07EA4E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1AD-8FBE-4BB0-B1E0-1E622FEC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344-7CE3-4603-8169-FDC242D4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40F-0A7A-4689-87CF-E0F1CE0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896-8F4B-4173-B9E1-C7E31013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C37-2AC1-4F64-84C4-0A01A90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910-61F9-496B-A537-D6D5811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CFB-3C5A-4CE9-97DA-8DA245B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606-FEAE-4C99-AC03-74280FA9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5034-39B3-4262-92A0-C30BD56E96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 of the Deep I Call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Baker Music: Brian Murphy  ©2001 Brian T. Murphy Mus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deep I ca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, O Lord, to The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y throne of grace I fall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deep I cry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eful deep of s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evil done in days gone by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evil now with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evil now with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the deep of fear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read of coming sham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ight ’til morning watch is nea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lead the precious na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lead the preciou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there is mercy now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ever was, with The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y throne of grace I bow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merciful to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hall I reach that happy pl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e forever blessed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hall I see my Father’s f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His bosom re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bound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ound fo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9:53Z</dcterms:modified>
  <cp:revision>15</cp:revision>
  <dc:subject/>
  <dc:title>O Help My Unbelief Words by Isaac Watts, Music by Justin Smith. © 2007 Justin Smith Music</dc:title>
</cp:coreProperties>
</file>