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623-ADD3-45D3-AB3E-2E59929F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0CD-6242-4E83-824A-DB26339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0FB-A890-4521-B129-DCAB95B3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54C-329D-4C37-883E-6528BFD8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89D-F1C4-48F3-92ED-F5D2172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5C2-EE18-4692-B4C7-6F14542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9C2-E662-4A66-8E6C-556A8F0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9E8-00BD-4650-9A60-A0DA0E9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CBB-E088-4FB3-BB51-87E36427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36A-8629-49EB-8AD1-84B59DE2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C3B-B1E2-42B6-A395-F699D1C5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83F-F3FE-4934-8E7C-DBB6113A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21F-39E6-4048-BB63-8F24BD2C61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 of the Deep I Cal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Baker Music: Brian Murphy  ©2001 Brian T. Murphy Mus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ep I ca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, O Lord, to The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y throne of grace I fall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ep I cr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eful deep of s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vil done in days gone b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vil now with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vil now with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ep of fear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read of coming sham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ight ’til morning watch is nea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lead the precious na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lead the preciou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here is mercy n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ever was, with The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y throne of grace I bow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reach that happy pl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e forever blessed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see my Father’s f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His bosom r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9:53Z</dcterms:modified>
  <cp:revision>15</cp:revision>
  <dc:subject/>
  <dc:title>O Help My Unbelief Words by Isaac Watts, Music by Justin Smith. © 2007 Justin Smith Music</dc:title>
</cp:coreProperties>
</file>