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AAF6C-9CD4-4D83-974A-649480ABE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A5DB5-F252-455B-8689-2F26DC4AF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C8C7B-ED6A-4AB0-92DA-66419D241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7951F-C32B-4E15-B96D-D0E86D5EE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71FDB-181D-488A-8163-DA8165CF2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8509E-A1CC-4321-B23A-E4895C315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16561-E18F-4EF0-B223-F162D7C72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CFF5A-412B-4EFB-B4C3-C1FB55E1C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E68EC-1D69-4162-8B9A-296BFB664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90D4E-FE44-421D-AB54-A73E7877B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65657-17FB-4392-8192-52DC79CB7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E47D8-4038-4E74-9E28-64B4B7D6E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4C83C-E84A-46A7-AFE8-14D71B85549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 the Deep Deep Love of Jesus</a:t>
            </a:r>
            <a:br>
              <a:rPr sz="40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rds: Samuel Francis   Music: Welsh Melody  Public Doma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 the deep, deep love of Jesus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Vast, unmeasured, boundless, free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olling as a mighty ocea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 its fullness over me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Underneath me, all around m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s the current of Thy lov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eading onward, leading homewar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o Thy glorious rest above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 the deep, deep love of Jesus,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pread His praise from shore to shore!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ow He loveth, ever loveth,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hangeth never, nevermore!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ow He watches o’er His loved ones,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ed to call them all His own;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ow for them He intercedeth,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atcheth o’er them from the throne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 the deep, deep love of Jesus,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ove of every love the best!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’Tis an ocean vast of blessing,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’Tis a haven sweet of rest!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 the deep, deep love of Jesus,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’Tis a heaven of heavens to me;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it lifts me up to glory,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r it lifts me up to Thee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4T00:56:45Z</dcterms:created>
  <dc:creator>Zachary</dc:creator>
  <dc:description/>
  <dc:language>en-US</dc:language>
  <cp:lastModifiedBy>Zachary</cp:lastModifiedBy>
  <dcterms:modified xsi:type="dcterms:W3CDTF">2013-01-05T19:53:00Z</dcterms:modified>
  <cp:revision>11</cp:revision>
  <dc:subject/>
  <dc:title>O Help My Unbelief Words by Isaac Watts, Music by Justin Smith. © 2007 Justin Smith Music</dc:title>
</cp:coreProperties>
</file>