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859-6CBA-47EB-B837-886F6FF3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9E9-3F9A-4849-9937-E9EA2833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204-558B-4BF7-B29C-5ABE6730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D5E-284D-4D60-B053-A79DC94C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283-2479-4A9D-866F-47D6F087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347-315A-486B-8BA6-6F1A50AC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C37-2C88-4220-A48B-D7AB8436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1FD-A9BC-446F-AEF4-27427D9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2AC-49A7-4BAE-A722-3A8321A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524-473D-4EB1-A9D7-7E8FC4B7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DF6-917C-4013-B396-AF7A721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A2C-2AD4-4C24-ABA6-3EC21A4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27E-FAE9-43D8-A4A7-B8111CB2F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the Deep Deep Love of Jesu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muel Francis   Music: Welsh Melody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, unmeasured, boundless, f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ling as a mighty 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its fullness ove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derneath me, all around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current of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ing onward, leading home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glorious rest abov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ead His praise from shore to shor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He loveth, ever love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th never, nevermor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He watches o’er His loved on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d to call them all His ow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or them He intercede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eth o’er them from the thr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of every love the best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an ocean vast of bless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a haven sweet of rest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a heaven of heavens to m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t lifts me up to glor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t lifts me up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3:00Z</dcterms:modified>
  <cp:revision>11</cp:revision>
  <dc:subject/>
  <dc:title>O Help My Unbelief Words by Isaac Watts, Music by Justin Smith. © 2007 Justin Smith Music</dc:title>
</cp:coreProperties>
</file>