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6C4-9735-407C-9BC7-BB53BD3C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BE0-5A9C-42FD-8225-7A3FFDBA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515-2AF2-4AF4-9E87-E74ED2E4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212-8478-458D-A46B-38FA4009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9E7-A2D6-4DA7-9B3F-C0275533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FC9-E0DC-49A4-AB40-8B025E6D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CD2-9EBB-4481-8A96-889C710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5A8-7DAF-46F2-972E-E8D2C03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738-6FB0-40ED-BA85-A5125DAC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E45-8C5E-4258-82CF-5FB47F37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8AA-068C-44DF-9F99-B0FD176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C26-700A-4CC8-B347-61F942B4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5A83-154B-4166-ACBB-AF0EEC918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Sacred Head Now Wounde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Bernard of Clairvaux   Music: Johann Walter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cred Head, now wounded,\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rief and shame weighed d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cornfully surroun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orns, Thine only cr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cred Head, what g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liss ’til now was Th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though despised and g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joy to call Thee 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hou, my Lord, hast suffere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all for sinners’ gai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e, mine was the transgressio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ine the deadly pain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, here I fall, my Savior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I deserve Thy plac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on me with Thy favo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uchsafe me to Thy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oy can never be spoke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all joys besid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n Thy body broke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hus with safety hid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ord of Life, desi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now to se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ide Thy cross expir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d breathe my soul to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nguage shall I borrow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praise Thee, heavenly frie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is my dying sorr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ity without end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make me Thine forev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me faithless prov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let me never, nev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use such dying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bid that I should leave Th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esus leave not 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faith I would receive Th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lood can make me fr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trength and comfort languis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must hence depar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ease me then from anguis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ne own wounded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near when I am dy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show Thy cross to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my succor fly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Lord and set me fre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eyes new faith receiv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Jesus shall not mov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who dies believ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s safely, through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2:03Z</dcterms:modified>
  <cp:revision>10</cp:revision>
  <dc:subject/>
  <dc:title>O Help My Unbelief Words by Isaac Watts, Music by Justin Smith. © 2007 Justin Smith Music</dc:title>
</cp:coreProperties>
</file>