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190-5A01-4DBE-872C-F87632A3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E23-E77F-4940-AF62-6E84AD0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91D-A66D-4204-9A2C-9670CFB9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DB8-EC99-4302-BF5D-317EF717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433-5D27-4E27-8BEC-801A1BEF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7DD-C137-4400-9BFB-A12E292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C7D-2263-4607-B318-8A3FA43D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9F2-8100-4021-B6B1-6E53DCB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B44-636A-42FB-9F6B-117C6DB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EC0-D141-454C-90D5-E1BC4F31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BDF-744B-4A96-A879-E657183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3C5-B528-403F-836A-6765453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9CB-8E45-423F-9422-A95194B263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Sacred Head Now Wound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Bernard of Clairvaux   Music: Johann Walter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cred Head, now wounded,\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rief and shame weighed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ornfully surrou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orns, Thine only cr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cred Head, what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liss ’til now was T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though despised and g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joy to call The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hou, my Lord, hast suffer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all for sinners’ gai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e, mine was the transgressio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ine the deadly pain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here I fall, my Savior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I deserve Thy plac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on me with Thy favo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uchsafe me to Thy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oy can never be spoke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all joys besid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n Thy body broke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hus with safety hid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 of Life, desi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now to se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ide Thy cross expir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d breathe my soul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nguage shall I borro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praise Thee, heavenly frie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is my dying sorr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ity without en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make me Thine forev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me faithless prov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let me never, nev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use such dying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that I should leave Th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 leave not 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I would receive Th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lood can make me fr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trength and comfort languis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must hence depar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ease me then from anguis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wounded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near when I am dy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show Thy cross to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my succor fly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Lord and set me fr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eyes new faith receiv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Jesus shall not mov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who dies believ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s safely, through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2:03Z</dcterms:modified>
  <cp:revision>10</cp:revision>
  <dc:subject/>
  <dc:title>O Help My Unbelief Words by Isaac Watts, Music by Justin Smith. © 2007 Justin Smith Music</dc:title>
</cp:coreProperties>
</file>