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02A-B367-482A-BD61-6666C463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1EB-C5DA-4BEF-A2EC-D5147FAA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BC7-BC20-4CA1-841E-D5F88F6B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25E-D2EF-4274-92A7-B9A3B861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66D-3099-463F-8ABD-CDCB68F8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870-EA49-470E-AB66-DE9EFF1E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7A9-EE6E-400B-9DEC-D12690A4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44A-15B9-4104-B23E-64C78A90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BE2-CCDF-49AC-919B-C19A0C53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ACD-0C5B-47B0-A9E0-89FFDF67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FBB-7286-4F61-A74E-D28C6A8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1E3-9C7C-42CA-9E45-50F98C8B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D180-EA0E-43A2-A566-90DA85D12B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 Jordan’s Stormy Bank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amuel Stennet   Music: Chris Miner  ©1997 Christopher Miner Musi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Jordan’s stormy banks I st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st a wishful ey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anaan’s fair and happy l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my possessions l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’er those wide extended plain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ines one eternal day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God the Son forever reign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catters n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chilling winds nor poisonous br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reach that healthful shor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ckness, sorrow, pain and dea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felt and feared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hall I reach that happy pl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e forever blessed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hall I see my Father’s f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His bosom re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8:30Z</dcterms:modified>
  <cp:revision>14</cp:revision>
  <dc:subject/>
  <dc:title>O Help My Unbelief Words by Isaac Watts, Music by Justin Smith. © 2007 Justin Smith Music</dc:title>
</cp:coreProperties>
</file>