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359-3245-4049-8303-0329EE1A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255-407E-40BD-B325-CB251376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AB0-FF6D-4A36-B00C-1E174417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6DA-D1A1-42F3-9225-502A61B9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A5A-7B78-4D34-86D1-7865255E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E2E-A689-4ED0-BD83-541F7B67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C24-0358-42D1-8A56-A4759CBD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675-5ABA-4790-A102-6AC84C15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EB4-7CD3-403C-837A-79C4D16E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74D-A680-4BC1-86C9-F0EB801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8B0-A776-40C2-9CD0-DC14E55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15A-EE9D-46C9-933D-B00B75A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A290-CBA4-45AD-970D-C405C21F26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 Jordan’s Stormy Bank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amuel Stennet   Music: Chris Miner  ©1997 Christopher Miner Musi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Jordan’s stormy banks I st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st a wishful ey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anaan’s fair and happy l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my possessions l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’er those wide extended plain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ines one eternal day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God the Son forever reign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catters n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chilling winds nor poisonous br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reach that healthful shor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ckness, sorrow, pain and dea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felt and feared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hall I reach that happy pl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e forever blessed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hall I see my Father’s f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His bosom re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8:30Z</dcterms:modified>
  <cp:revision>14</cp:revision>
  <dc:subject/>
  <dc:title>O Help My Unbelief Words by Isaac Watts, Music by Justin Smith. © 2007 Justin Smith Music</dc:title>
</cp:coreProperties>
</file>