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409-7289-4585-BBFC-C06DE9DD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1DD-0819-4EDA-A7FF-976AD47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6C3-1809-4BBF-B624-AAF2420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46C-65E7-4D12-B26E-6BC85729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360-1B82-4DB3-AA29-7832F9E1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27D-1F01-443D-94AB-5AC611F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3FB-6532-4703-A95C-33A8770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B14-E959-4BE5-978F-218FD02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D42-D567-4ED0-B34F-C961C54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F7A-D26F-4BAD-A84B-FC2BF28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1A7-4FFE-4A45-BDA1-9B25E03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5E3-0349-4DB9-A2F5-AE7C3D8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659-3B14-46DF-91C1-9FCE8FF2F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ve that Will Not Let Me Go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1997 Christopher Miner Music. Words: George Matheson. Music: Christopher Min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that will not let me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my weary soul in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thee back the life I ow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ine ocean depths its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richer, full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ight that followest all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yield my flickering torch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restores its borrowed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y sunshine’s blaze it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brighter, fair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oy that seekest me through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close my hear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ace the rainbow through the r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l the promise is not v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orn shall tearless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ross that liftest up my h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ask to fly from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ay in dust life’s glory d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om the ground there blossoms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that shall endless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8:21Z</dcterms:created>
  <dc:creator>Zachary</dc:creator>
  <dc:description/>
  <dc:language>en-US</dc:language>
  <cp:lastModifiedBy>Zachary</cp:lastModifiedBy>
  <dcterms:modified xsi:type="dcterms:W3CDTF">2013-01-04T01:18:50Z</dcterms:modified>
  <cp:revision>1</cp:revision>
  <dc:subject/>
  <dc:title>O Love that Will Not Let Me Go ©1997 Christopher Miner Music. Words: George Matheson. Music: Christopher Miner.</dc:title>
</cp:coreProperties>
</file>