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5E3-6A24-415F-B80A-9E8012C5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525-B879-40B9-B760-F0A0CC19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D23-AFF0-4B6F-93CF-810529A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E12-A829-4EAD-A27A-43B1D1C8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A6C-72E1-4671-ABCF-EB91403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9AE-A2CB-43B7-9246-69ED2D7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E37-F870-4EDE-8BDC-E6288C51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2F9-FC04-4D9D-9EFA-8FF9B12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9B2-8B9C-412E-87BE-2218B16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10B-3CCB-46B3-A340-4A99FE6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7FA-CB98-4183-AFE6-9CF18B5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39A-3C76-4A01-97BF-386F533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AD1-CAEA-4967-8742-D4D48A514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Love that Will Not Let Me Go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1997 Christopher Miner Music. Words: George Matheson. Music: Christopher Min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that will not let me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my weary soul in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thee back the life I ow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ine ocean depths its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richer, fuller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ight that followest all my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yield my flickering torch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restores its borrowed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y sunshine’s blaze it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brighter, fairer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oy that seekest me through p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close my hear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ace the rainbow through the r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l the promise is not v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orn shall tearless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ross that liftest up my h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are not ask to fly from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ay in dust life’s glory d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om the ground there blossoms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that shall endless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8:21Z</dcterms:created>
  <dc:creator>Zachary</dc:creator>
  <dc:description/>
  <dc:language>en-US</dc:language>
  <cp:lastModifiedBy>Zachary</cp:lastModifiedBy>
  <dcterms:modified xsi:type="dcterms:W3CDTF">2013-01-04T01:18:50Z</dcterms:modified>
  <cp:revision>1</cp:revision>
  <dc:subject/>
  <dc:title>O Love that Will Not Let Me Go ©1997 Christopher Miner Music. Words: George Matheson. Music: Christopher Miner.</dc:title>
</cp:coreProperties>
</file>