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1AB-0C53-4FED-82CE-1881CB65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983-751D-4E4A-8C72-D732478C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3AB-AEE6-43D6-862B-149CB801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632-217D-494B-BB92-6A57301F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3A8B-06FC-460A-BEBA-6882ADF8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747C-894E-4A23-A01A-3D115FCC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023-D35E-4864-A412-127C2A16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610-8E0D-4562-9185-22C1A5CE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9C9-37AD-4E31-81A6-61019212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554-BDEC-46A6-AB6A-B2762DB8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9E9-D63B-4FCA-9F2C-F50513C0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26C-3382-4594-86F8-BE3827E3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06B5-E73F-4831-A3AB-19F7F1FB3B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Love Incomprehensibl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Augustus Toplady (chorus, v.3), Anne Steele   Music: KevinTwit             © 2001 Kevin Twit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incomprehensi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de Thee bleed for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Judge of all has suffered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t His prisoner f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e alone my hope relie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ath Thy cross I fal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Lord, my Life, my Sacrifi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avior and my Al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incomprehensibl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de Thee bleed for m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Judge of all has suffered dea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t His prisoner f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ain what soul-oppressing pai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reat Redeemer bor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bloody sweat like drops of rai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tilled from every po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incomprehensibl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de Thee bleed for m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Judge of all has suffered dea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t His prisoner f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raigned at Pilate’s shameful bar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paralleled disgrace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spotless innocence appea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guilt’s detested p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incomprehensibl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de Thee bleed for m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Judge of all has suffered dea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t His prisoner f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potless Savior lived for m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ied upon the moun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bedience of His life and death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placed to my account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incomprehensibl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de Thee bleed for m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Judge of all has suffered dea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t His prisoner f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finished!” now aloud He crie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ore the Law require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now, amazing sacrifi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rd of Life expire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incomprehensibl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de Thee bleed for m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Judge of all has suffered deat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t His prisoner f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42:01Z</dcterms:modified>
  <cp:revision>9</cp:revision>
  <dc:subject/>
  <dc:title>O Help My Unbelief Words by Isaac Watts, Music by Justin Smith. © 2007 Justin Smith Music</dc:title>
</cp:coreProperties>
</file>