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C4C-6BBB-4DE9-ACDF-3E28442A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1C5-324F-430F-9CD7-6A4F9012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DF6-5873-47B6-B210-49BE8B99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9DF-1B6D-495B-AE7A-BEEAB3B0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780-11B7-40F1-ABA5-8FFC4874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644-6612-4E0A-B0A2-67ED86B5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017-D720-4388-83AF-1E222357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5F2-2906-42FC-8EDD-15426EA1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D84-7424-49E6-956B-2E9552D6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201-8F12-497F-B12C-ACB661E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ED5-1AA4-4BA0-A050-02812F13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4A3-6B86-42C0-A3DC-082F67D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77B6-B9DE-4EA9-822C-E65B4B07EA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ugustus Toplady (chorus, v.3), Anne Steele   Music: KevinTwit             © 2001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 alone my hope relie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Thy cross I fal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ord, my Life, my Sacrifi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 and my Al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ain what soul-oppressing pa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reat Redeemer bo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bloody sweat like drops of ra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tilled from every p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raigned at Pilate’s shameful ba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paralleled disgrac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spotless innocence appea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guilt’s detested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otless Savior lived for 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ied upon the mou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bedience of His life and dea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placed to my accoun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finished!” now aloud He crie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the Law requir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w, amazing sacrifi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of Life expir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42:01Z</dcterms:modified>
  <cp:revision>9</cp:revision>
  <dc:subject/>
  <dc:title>O Help My Unbelief Words by Isaac Watts, Music by Justin Smith. © 2007 Justin Smith Music</dc:title>
</cp:coreProperties>
</file>