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FC7-2D4E-4050-B93A-002F2BE8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A61-C9FB-426D-9128-3014293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001-C804-4074-AFD5-360C1CA2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056-6257-48E7-BB3E-6CC828BF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EB5-B832-414A-92A8-9897D485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3BD-9540-4D95-B238-606907BD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49C-4699-453F-86AF-8A46ECAE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852-5ADD-4ED8-A20E-371B8E19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2A9-87E9-4CBA-B9C8-4FB49C1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E6C-995B-43C6-BD7A-3D911EE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735-C886-421A-A654-04EFA70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AD7-1E04-4889-AC0D-D8A7DCF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F5AA-A571-42C6-BA24-EE4974E8A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Lord, Our Lord in all the Earth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Scottish Psalter   Music: Ian Fitchuck   © 2000 Ian Fitchuck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our Lord, in all the ear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excellent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Thou has spread af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the starry fr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ighty works and wondrous grac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, Lord, proclaim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excellent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lips of children, Thou, O Lor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mighty strength ordaine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adversaries should be still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vengeful foes restrain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regard the wondrous heaven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iwork on hig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on and stars ordained by The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hat is man, I c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hat is man, in Thy regar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old so large a pl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at the son of man, that Thou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st visit him with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our Lord, in all the ea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the Name of matchless wor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cellent in all the ear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great is Thy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n Thy wisdom has bestowe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ower well nigh divin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onor Thou has crowned his hea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lory like to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39:45Z</dcterms:modified>
  <cp:revision>8</cp:revision>
  <dc:subject/>
  <dc:title>O Help My Unbelief Words by Isaac Watts, Music by Justin Smith. © 2007 Justin Smith Music</dc:title>
</cp:coreProperties>
</file>