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84A-8397-4A18-811F-0FB2054E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289-A676-4058-9EC4-F6E5F398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342-14F5-4001-B24C-BB38BC8D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6EB-A454-4F75-ABFE-470202B7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E09-06EA-4ADA-BAB6-F0C9C7B2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04E-51B5-418C-B727-82C73289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465-39A8-454D-8747-BF78CAEB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2B1-D6E5-463B-99AA-75E0A559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564-5771-4CE5-B470-51EC762D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893-FDC9-407B-A6E5-1E6D8E5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117-D2AA-4DBA-A387-A0B63D1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9A6-29EB-4656-AC38-91D64EE1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C990-D68C-4B85-8AA6-D294614AE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Lord, Our Lord in all the Earth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cottish Psalter   Music: Ian Fitchuck   © 2000 Ian Fitchuck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, our Lord, in all the ear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excellent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Thou has spread af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ll the starry fr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ighty works and wondrous grac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, Lord, proclaim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excellent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lips of children, Thou, O Lor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mighty strength ordaine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adversaries should be stille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engeful foes restrain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regard the wondrous heaven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iwork on hig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on and stars ordained by The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hat is man, I c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hat is man, in Thy regar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old so large a pl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at the son of man, that Thou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st visit him with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n Thy wisdom has bestowe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ower well nigh divin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onor Thou has crowned his hea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glory like to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9:45Z</dcterms:modified>
  <cp:revision>8</cp:revision>
  <dc:subject/>
  <dc:title>O Help My Unbelief Words by Isaac Watts, Music by Justin Smith. © 2007 Justin Smith Music</dc:title>
</cp:coreProperties>
</file>