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9BF-CE3C-4F87-AD2D-B67E58A9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EC5-D47E-40E1-B0FF-6DD16D9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476-6106-4B25-8D0C-6F80B1E3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2E3-B4B8-4F28-A876-B331EEAA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927-930E-42A9-9BEA-3800EEAD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0D1-D9E7-4219-9B75-A84A9CC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545-E1CF-4E4A-A063-007E45F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CE9-E78B-4E43-BE7A-1D06BBB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D75-53B2-4562-831A-00B39BBF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213-4238-4809-8776-3334F1C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1C0-2788-4568-93ED-6262362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B8C-0E2A-4052-B849-84B59D0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5BD2-AD43-4C67-8E7F-9FA147CECB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Help My Unbelief</a:t>
            </a: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 by Isaac Watts, Music by Justin Smith. © 2007 Justin Smith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ad our state by nature 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in, how deep it stain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atan binds our captive mi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st in his slavish ch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re's a voice of sov'reign gra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s from the sacred wor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, ye despairing sinners c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ust upon the Lord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obeys th' almighty cal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uns to this rel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ould believe thy promise, Lor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elp my unbelief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dear fountain of thy bloo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arnate God, I f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 let me wash my spotted so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crimes of deepest dy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tch out Thine arm, victorious K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reigning sins subdu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 the old dragon from his sea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ll his hellish cre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guilty, weak, and helpless wor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y kind arms I fal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strength and righteousnes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Jesus, and my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0:56:45Z</dcterms:created>
  <dc:creator>Zachary</dc:creator>
  <dc:description/>
  <dc:language>en-US</dc:language>
  <cp:lastModifiedBy>Zachary</cp:lastModifiedBy>
  <dcterms:modified xsi:type="dcterms:W3CDTF">2013-01-04T00:57:19Z</dcterms:modified>
  <cp:revision>1</cp:revision>
  <dc:subject/>
  <dc:title>O Help My Unbelief Words by Isaac Watts, Music by Justin Smith. © 2007 Justin Smith Music</dc:title>
</cp:coreProperties>
</file>