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C5F-9775-4E8C-B12A-1A1EC17A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F8F-9277-4A80-8678-FFD3D7C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D79-9D0F-4886-954C-34A07A6A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387-D83D-43DC-9272-402CC17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74E-060F-4018-B3C5-F3244B43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ABC-854E-4712-9A19-7EF53518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018-6877-4928-AA98-F132775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53-F0E2-4233-BEAE-0727E3C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3F8-D55B-4330-ACD8-22AA042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289-FC4F-4654-802C-3A10192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617-57E0-4229-86A9-881F7CF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821-8EAB-4820-8E32-C742A4D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F910-871C-44E5-AF82-517569D980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Help My Unbelief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Isaac Watts, Music by Justin Smith. © 2007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ad our state by nature 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in, how deep it stai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tan binds our captive m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st in his slavish ch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re's a voice of sov'reign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s from the sacred wor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, ye despairing sinners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upon the Lord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obeys th' almighty c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uns to this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ould believe thy promise,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lp my unbelief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dear fountain of thy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arnate God, I f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e wash my spotted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crimes of deepest d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tch out Thine arm, victorious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eigning sins subdu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 the old dragon from his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his hellish cr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uilty, weak, and helpless wor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y kind arms I f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streng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Jesus, and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4T00:57:19Z</dcterms:modified>
  <cp:revision>1</cp:revision>
  <dc:subject/>
  <dc:title>O Help My Unbelief Words by Isaac Watts, Music by Justin Smith. © 2007 Justin Smith Music</dc:title>
</cp:coreProperties>
</file>