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883-5574-4CFF-A216-49E907A8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E65-AD1C-4442-ACC7-C28C38AC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FB1-1108-44DA-8793-8766BF30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47D-68A5-4ED9-9483-F39A088F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CBA-5355-4FAB-BD50-725089E3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C29-2AB9-4591-A5C1-5D465A5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8CF-C0F5-4F20-BF40-5A7F4DA1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500-F802-4CD1-B6C9-DCE723B1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1A2-9E84-4AC0-8759-1E974876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2CF-B44A-47BD-8DE3-B433B2D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42F-48E1-4360-8721-A702FFD7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190-68E7-4EC9-81BA-029152C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5770-3521-43C9-B7B4-C3FC5DCA32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Heart Bereaved and Lonely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Fanny Crosby   Music: Chris Miner   © 2004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eart bereaved and lonely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brightest dreams have f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hopes like summer ros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withered crushed and d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link by link be bro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ears unseen may f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up amid thy sorrow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who knows it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ling to thy Redeeme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avior, Brother, Frien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ieve and trust His promise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keep you till the en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atch and wait with patience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question all you wil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arms of love and mercy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round about thee st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up, the clouds are breaking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orm will soon be o'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ou shall reach the haven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sorrows are no mor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up, be not discouraged;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 on, whate'er befal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, O remember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avior knows it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7:37Z</dcterms:modified>
  <cp:revision>7</cp:revision>
  <dc:subject/>
  <dc:title>O Help My Unbelief Words by Isaac Watts, Music by Justin Smith. © 2007 Justin Smith Music</dc:title>
</cp:coreProperties>
</file>