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3C7-FC41-422D-BCA4-D0A8375D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4CD-B1ED-469E-90FB-2297655E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778-5738-4833-AF0C-260F32A9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7BF-3126-4F1D-8111-3EB0D676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803-2C01-43C2-A346-6984E3E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3D6-461A-4A44-9A62-165E07E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A03-4AC7-48F0-9642-EB59664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42C-B926-4675-BE5F-97DF9D1E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A4F-FCEA-4D92-90DB-656EE64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65C-E8AD-4D80-BB19-93FFA50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45E-3216-41FD-903F-FDFD455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8E4-DB08-4F59-A285-C01857D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771-8A6E-405B-9019-792AE3A80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Heart Bereaved and Lonel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anny Crosby   Music: Chris Miner   © 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art bereaved and lonely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brightest dreams have f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hopes like summer ro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withered crushed and d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link by link b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ars unseen may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 amid thy sorrow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who knows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ling to thy Redeem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vior, Brother, Frie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ieve and trust His promis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you till the e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atch and wait with patienc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question all you wi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rms of love and mercy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round about the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, the clouds are breaking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orm will soon be o'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 shall reach the haven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sorrows are no mo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, be not discouraged;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on, whate'er bef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O remembe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vior knows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7:37Z</dcterms:modified>
  <cp:revision>7</cp:revision>
  <dc:subject/>
  <dc:title>O Help My Unbelief Words by Isaac Watts, Music by Justin Smith. © 2007 Justin Smith Music</dc:title>
</cp:coreProperties>
</file>