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203-8231-41AF-AE02-7EE9E974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09C-67F1-4E43-A6E0-A98CD8CE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DFD-271E-4889-8478-B532AAB4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D70-644A-43D5-AB15-4D4A159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F82-FC8A-4CCC-B610-10A908BA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999-4262-4CA0-9525-AA14A915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028-15F9-4C7D-A8B3-52EF65E9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0FF-27E2-4120-9A82-7044628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102-85EE-4A86-803C-B20638A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8DC-6694-4AAF-BFD9-C4B57AC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B64-03C7-4BE0-A8E0-32AF0C17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45D-2E1F-4D24-AF4B-9B8E84FA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7B7-7CD2-44A5-B79F-5B7859903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God Our Help in Ages Past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William Croft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our help in ages p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ope for years to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elter from the stormy b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eternal h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the shadow of Thy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ints have dwelt secu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fficient is Thine arm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defense is 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hills in order st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earth received her fr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everlasting Thou art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ndless years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d commands our flesh to dus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turn, ye sons of men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ations rose from earth at 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urn to earth a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ousand ages in Thy s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like an evening g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rt as the watch that ends the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rising s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 our help in ages p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ope for years to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our guard while troubles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eternal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6:29Z</dcterms:modified>
  <cp:revision>6</cp:revision>
  <dc:subject/>
  <dc:title>O Help My Unbelief Words by Isaac Watts, Music by Justin Smith. © 2007 Justin Smith Music</dc:title>
</cp:coreProperties>
</file>