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A4D-D261-4EDA-AA5A-F3405E46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85F-48CB-4A9C-A8C1-C509FE86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735-2F9A-4F79-B1B1-E03F08AF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B84-8D9C-4D81-82C1-8989242C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BEF-639A-4700-BCFF-C6356F84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A0F-440A-4A24-99B3-335FBB49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3D1-1180-4331-BCF6-058A99C2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047-373A-4B13-8C80-E839552F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827-B4AE-4BFC-816B-8BB72D3E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35A-005F-43E2-A4C3-134E7AF9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BDB-B021-4A55-9039-EC6DCA74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CBF-E7EC-4DD3-AB8E-A9886352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BECA-98A8-46D3-AC55-52467A15AF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God Our Help in Ages Past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  Music: William Croft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, our help in ages p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ope for years to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helter from the stormy bl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ur eternal ho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the shadow of Thy thr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saints have dwelt secu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fficient is Thine arm al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ur defense is s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e hills in order st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earth received her fr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everlasting Thou art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endless years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ord commands our flesh to dus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turn, ye sons of men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nations rose from earth at fir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urn to earth ag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ousand ages in Thy s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like an evening g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rt as the watch that ends the 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e rising su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 our help in ages p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ope for years to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our guard while troubles l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ur eternal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6:29Z</dcterms:modified>
  <cp:revision>6</cp:revision>
  <dc:subject/>
  <dc:title>O Help My Unbelief Words by Isaac Watts, Music by Justin Smith. © 2007 Justin Smith Music</dc:title>
</cp:coreProperties>
</file>