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E39-D4F5-4F17-AC00-6BBEB656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DB5-6145-463C-8FDE-9F3CFD51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6E3-3E78-4BD7-B704-8EA44B02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20C-5F62-4D3B-AFF9-2F2F65DB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B28-7D5A-4901-B0B6-E1EF3C13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0BD-F84C-4596-B508-95163865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A7D-744E-4D20-A985-B0201CAB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A09-9A24-4E69-9028-157553AB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3BA-B0FE-46CA-8657-26ABAFF8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D38-DCE4-4CF5-B1B5-FC04BBBD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0D4-A0FE-4AB9-B2A5-DDE0D71E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EB2-6F9D-45E7-B831-50A7B7A2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325B-4C62-49D4-8AC0-BC969EDAAD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t in Sorrow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White, Frances Fuller-Maitland   Music: Justin Smith ©2011 Justin Smith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t in sorrow, oft in wo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ward, Christian, onward g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ght the fight, maintain the strif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ngthened with the Bread of li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your drooping hearts be gla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in heavenly armor c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ght, nor think the battle lo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tory soon shall be your s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t sorrow dim your ey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shall every tear be d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t fears your course impe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your strength, if great your ne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ward then in battle m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than conquerors ye shall pr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opposed by many a fo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ian soldiers onward g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04:29Z</dcterms:modified>
  <cp:revision>3</cp:revision>
  <dc:subject/>
  <dc:title>O Help My Unbelief Words by Isaac Watts, Music by Justin Smith. © 2007 Justin Smith Music</dc:title>
</cp:coreProperties>
</file>