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159-723B-47B8-AA31-87365FC2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C02-E473-4E74-BDCD-58F5F795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CB3-FBBA-4E09-8089-70B773B7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C2F-9A79-4AC9-9097-97549929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4A1-2F28-4B9A-9EA7-6F2D4DD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F0A-794B-472A-8B20-F6C2A952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0EC-B501-4552-9021-BB5C6AE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EF2-A0B6-47CA-98D8-15A1027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D19-C59E-4EA6-BD19-82E6182D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7EE-4F8D-4AD7-B39F-F272E0E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C28-E763-427D-BA6B-6441253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DFC-BE21-4937-BCD9-6EC0102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79EE-086A-44D8-8C33-9F5CA2D6B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t in Sorrow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White, Frances Fuller-Maitland   Music: Justin Smith ©2011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 in sorrow, oft in wo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, onward g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 the fight, maintain the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ngthened with the Bread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your drooping hearts be gla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in heavenly armor c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, nor think the battle lo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y soon shall be your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sorrow dim your e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every tear be d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fears your course impe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your strength, if great your ne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 then in battle m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conquerors ye shall pr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pposed by many a fo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ian soldiers onward g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04:29Z</dcterms:modified>
  <cp:revision>3</cp:revision>
  <dc:subject/>
  <dc:title>O Help My Unbelief Words by Isaac Watts, Music by Justin Smith. © 2007 Justin Smith Music</dc:title>
</cp:coreProperties>
</file>