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CD8-76F9-41B4-B58B-442CABEE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08F-57EA-4BF6-9ED4-ADE7906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3AC-E54C-4552-9DF3-FAF04134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190-139B-4C09-9A79-6ECC348F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8FD-2746-4597-B47C-B22BFCCB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197-FF7E-4F31-BB4B-1501A89C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4BE-EC0D-48B5-853D-2C6AD8FF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98B-E449-405B-B57C-C736F57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892-95A7-40C1-83A9-7D4577A5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BCF-2135-43CB-B640-F055145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5CF-FA07-4393-9D28-41978F4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039-849E-4D64-B36D-28825500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C1B-F0DD-4901-8607-DAA6F71209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  Music: Kevin Twit   © 1999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eat Redeemer’s pra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es of my God and 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riumphs of His gra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acious Master and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ist me to procla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pread through all the earth ab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nors of Thy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The Name that charms our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bids our sorrows cea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music in the sinner’s 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life, and health,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eaks the power of canceled s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ets the prisoner fr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can make the foulest clea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availed for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peaks, and, listening to His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ife the dead rece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urnful, broken hearts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umble poor belie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Him, ye deaf; His praise, ye dumb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loosened tongues emplo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lind, behold your Savior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p, ye lame, for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 for a thousand tongues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a thousand tongues 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4:37Z</dcterms:modified>
  <cp:revision>5</cp:revision>
  <dc:subject/>
  <dc:title>O Help My Unbelief Words by Isaac Watts, Music by Justin Smith. © 2007 Justin Smith Music</dc:title>
</cp:coreProperties>
</file>