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094F-0DDD-4A93-A93C-4150468E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F56A-77B5-454F-838F-06A5A9B9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571B-6997-4DC1-A3CA-F5863D81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26B0-DB36-4EEA-BA85-C630C113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B910-4C07-49B4-BADC-00D3D718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4176-AC1E-44ED-977C-1CC1830D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7F69-E64A-4B1B-82F5-DB1C83AD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3DB1-D8F2-4723-94BB-4918436B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8599-1AD8-4882-BA58-3845C501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3FCD-E31A-46A5-B827-AE9676C1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A5DB-2B21-4963-9E66-16925BDF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FCEF-290B-4957-8E2B-A9E091A3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3354-E42F-4479-8325-30269723B9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 For a Thousand Tongues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Charles Wesley   Music: Kevin Twit   © 1999 Kevin Twit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for a thousand tongues to 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great Redeemer’s prais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glories of my God and King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triumphs of His grac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gracious Master and my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sist me to procla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pread through all the earth abro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honors of Thy Na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for a thousand tongues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O for a thousand tongues)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for a thousand tongues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O for a thousand tongues)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for a thousand tongues to 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! The Name that charms our fear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bids our sorrows ceas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music in the sinner’s ear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life, and health, and pe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breaks the power of canceled si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sets the prisoner fr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blood can make the foulest clea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blood availed for 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for a thousand tongues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O for a thousand tongues)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for a thousand tongues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O for a thousand tongues)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for a thousand tongues to 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speaks, and, listening to His voi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w life the dead recei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mournful, broken hearts rejoi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humble poor belie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r Him, ye deaf; His praise, ye dumb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loosened tongues emplo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 blind, behold your Savior co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eap, ye lame, for jo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for a thousand tongues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O for a thousand tongues)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for a thousand tongues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O for a thousand tongues)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for a thousand tongues to 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19:34:37Z</dcterms:modified>
  <cp:revision>5</cp:revision>
  <dc:subject/>
  <dc:title>O Help My Unbelief Words by Isaac Watts, Music by Justin Smith. © 2007 Justin Smith Music</dc:title>
</cp:coreProperties>
</file>