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D73D-8A3C-43E3-AB04-A8660E5C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D002-90E8-448A-901C-51F76B3B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4B04-0513-4797-B286-618A6B3C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1295-5153-488E-9481-DF3F3192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AF89-F55C-4C9F-B8D3-D3546C35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6012-2562-4EC0-8FB1-28F7415B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EC6E-38FF-4126-99A0-9D5D7A2F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AA71-6393-471D-B102-4C37A68E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6815-7169-4063-9382-81034FA3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4755-73BA-4129-B4FA-248A318A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489F-25A1-4180-B6D6-E665B3E1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72E0-588C-42C5-844D-D0210D4B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6FA1-C3AC-4C6F-A2DF-8B41C804DD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Day of Rest and Gladnes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Christopher Wadsworth   Music: Chris Miner   © 1997 Christopher Miner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day of rest and gladn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day of joy and l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balm of care and sadn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st beautiful, most brigh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ee, the high and low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ages joined in tu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g holy, holy, ho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 great God Triu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ee, at the creat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ight first had its birth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ee, for our salvat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ist rose from depths of earth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ee, our Lord, victorio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pirit sent from heav’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us on Thee, most glorio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triple light was giv’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art a port protect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storms that round us ris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garden intersect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streams of paradis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art a cooling fount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life’s dry dreary san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ee, like Pisgah’s mounta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view our promised l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day on weary nation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eav’nly manna falls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oly convocation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ilver trumpet calls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gospel light is glowing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pure and radiant beams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iving water flowing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soul-refreshing stream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w graces ever gaining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is, our day of rest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reach the rest remaining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pirits of the blessed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oly Ghost be praises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Father, and to Son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hurch her voice upraise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e, blessed Three in 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19:33:15Z</dcterms:modified>
  <cp:revision>4</cp:revision>
  <dc:subject/>
  <dc:title>O Help My Unbelief Words by Isaac Watts, Music by Justin Smith. © 2007 Justin Smith Music</dc:title>
</cp:coreProperties>
</file>