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66A8-7E63-455A-95A5-EC5D8CE5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CC6A-94AE-4625-BC78-214266A7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789F-2836-473F-B5E5-0F32419C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184B-A5E0-4CC9-B804-B858C550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BD2A-D70A-410C-8F78-9464A7E0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654B-D6C7-4D33-8F97-A39EE1DF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EA1A-8C79-46C3-885F-628F97CA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1DF-E2CA-4AF4-872A-7128901A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2609-FF34-4D09-9228-3BC8DD5A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64B2-F9E1-40AB-AD75-E50B1961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9502-824D-481D-9919-D10968DF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24B1-B967-4A74-9F52-C314BB91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2047-8C7D-4C20-8C6B-881524C7D9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Day of Rest and Gladnes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Christopher Wadsworth   Music: Chris Miner   © 1997 Christopher Miner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day of rest and gladn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day of joy and l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balm of care and sadn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beautiful, most brigh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e, the high and low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ages joined in tu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 holy, holy, ho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 great God Triu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e, at the creat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ight first had its birth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e, for our salvat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 rose from depths of earth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e, our Lord, victorio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pirit sent from heav’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us on Thee, most glorio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triple light was giv’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rt a port protec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storms that round us ris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garden intersec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streams of paradis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rt a cooling fount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life’s dry dreary san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ee, like Pisgah’s mount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view our promised 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day on weary nation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eav’nly manna falls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oly convocation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ilver trumpet call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gospel light is glowing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pure and radiant beam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iving water flowing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soul-refreshing stream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graces ever gaining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is, our day of rest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reach the rest remaining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pirits of the blessed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oly Ghost be praise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Father, and to Son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hurch her voice upraise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, blessed Three in 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33:15Z</dcterms:modified>
  <cp:revision>4</cp:revision>
  <dc:subject/>
  <dc:title>O Help My Unbelief Words by Isaac Watts, Music by Justin Smith. © 2007 Justin Smith Music</dc:title>
</cp:coreProperties>
</file>