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EE1-9348-4889-834C-DFB0AB4F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2B6-427C-4D61-BB9D-CC6A2FFB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B4F-2282-4ADE-9224-AE31DB7E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680-C7F2-4AE8-9945-6BE655DA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47B-DE83-4FC2-A080-6B770398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913-6960-47D6-A561-4EB900A1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B26-7D3C-4BCF-9A5F-C4CE0F3A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66A-1B05-4E9B-97D3-58888D51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583-6704-4E1E-8B9D-8332D5C6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D7A-952C-4BBA-BC21-7CB0B4E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686-11DB-49E5-ACF9-2639567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E23-792D-4E83-AC9D-840FC21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599D-2349-41DC-B2E1-4131A52EF7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Come and Mour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Frederick Faber   Music: Eric Ashley   © 1999 Eric Ashley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 and mourn with me awhi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 ye to the Savior’s s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, together let us mour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 times He spake seven words of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ree hours His silence cr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rcy on the souls of me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of God! O sin of ma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dread act Your strength is tr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ctory remains with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reak, O break, hard heart of m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eak self-love and guilty pr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ilate and His Judas we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roken heart, a fount of t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, and they will not be den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roken heart love’s cradle 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of God! O sin of ma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dread act Your strength is tr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ctory remains with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ctory remains with lov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Lord is crucifi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1:32Z</dcterms:modified>
  <cp:revision>3</cp:revision>
  <dc:subject/>
  <dc:title>O Help My Unbelief Words by Isaac Watts, Music by Justin Smith. © 2007 Justin Smith Music</dc:title>
</cp:coreProperties>
</file>