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60B-73AD-4F34-98EA-7F63978D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2A8-060B-473D-B806-960BC9C1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DE4-8E9F-441C-ABF5-F6F4B5A6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E2F-AA4F-4143-865F-048B935C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BF7-7C37-4721-82CD-214B24F7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DE4-13F6-4170-B2E4-9E014DE7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C1C-10C1-4FA9-81BE-64EC1EBD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381-1184-40C1-BEAD-4BB0291C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CDA-6A64-4BA5-A865-CC2D5F8E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2DC-1B60-4DB2-9C5D-F78C809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499-9DEB-4E31-9479-2B5B046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2D9-3FEE-4665-A77C-F96B89F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AE82-BFA7-4E7E-9B53-363772C88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Come and Mour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Frederick Faber   Music: Eric Ashley   © 1999 Eric Ashley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 and mourn with me awhi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 ye to the Savior’s s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, together let us mour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 times He spake seven words of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ree hours His silence cr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rcy on the souls of me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of God! O sin of ma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dread act Your strength is tr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ctory remains with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reak, O break, hard heart of m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eak self-love and guilty pr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ilate and His Judas we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roken heart, a fount of t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, and they will not be den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roken heart love’s cradle 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of God! O sin of ma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dread act Your strength is tr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ctory remains with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ctory remains with lov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1:32Z</dcterms:modified>
  <cp:revision>3</cp:revision>
  <dc:subject/>
  <dc:title>O Help My Unbelief Words by Isaac Watts, Music by Justin Smith. © 2007 Justin Smith Music</dc:title>
</cp:coreProperties>
</file>