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BF1-4DA6-4106-AF23-019938B8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439-3E84-4A43-9E9A-E9D5F15E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0E4-C8B7-4E9E-AEAD-1E232263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F90-094C-4A5A-B3AE-C12C3ED3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16C-9ECD-4733-B8C2-677E4D63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932-09EA-4A8F-82C8-3F8654FA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B27-A173-49D7-BA70-6ACF0316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8F4-E394-4A9D-9B7D-4B8171F7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CC6-BDFE-444C-B4AC-DE6AE39C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A31-80AB-4002-A5B6-EE5E3616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F54-AF97-483F-87B9-4244CA6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74A-7EE0-4D5F-B038-09BFC0E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7836-8347-4D69-B475-CD1DC34073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Christ our King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Gregory the Great   Music: Stephen Barnes. © 1997 Stephen Barnes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hrist, our King, Creator,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 of all who trust Thy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m who seek Thee ever 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o our praises bend Thine 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dear cross a grace is f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flows from every streaming w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power our inbred sin contr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eaks the firm bond and frees our sou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didst create the stars of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Thou hast veiled in flesh Thy 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deigned a mortal form to w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mortal’s painful lot to b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ou didst hang upon 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uaking earth acknowledged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ou didst there yield up Thy br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ld grew dark as shades of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in the Father’s glory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Conqueror never more to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 by Thy mighty power def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eign through ages without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eign through ages without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eign through ages without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0:11Z</dcterms:modified>
  <cp:revision>2</cp:revision>
  <dc:subject/>
  <dc:title>O Help My Unbelief Words by Isaac Watts, Music by Justin Smith. © 2007 Justin Smith Music</dc:title>
</cp:coreProperties>
</file>