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094-93FD-4755-8A32-D5A321D9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D05-9097-4CD2-9B14-47DAE79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6CF-6E80-411B-8FE9-AD568E1D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1E0-6333-4893-8293-1096D2A1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24F-E69F-4A25-8568-097D2BF3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71D-9B42-4A86-8E8C-8EF25A59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F48-346A-43DE-A5F0-EADEE1AD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C5B-789C-401E-A772-F8E64BDA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1B3-E323-4D8C-801B-FDEB0300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66F-A72C-4A34-8CEE-82D6773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F9C-2D59-41DA-BDCA-66F919D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8D0-4D5F-4891-9007-44222823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F3DC-11E9-4DFB-B8AA-2CA9298866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Christ our King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Gregory the Great   Music: Stephen Barnes. © 1997 Stephen Barnes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hrist, our King, Creator,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 of all who trust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m who seek Thee ever 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o our praises bend Thine 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dear cross a grace is f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flows from every streaming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power our inbred sin contr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ks the firm bond and frees our sou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didst create the stars of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Thou hast veiled in flesh Thy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t deigned a mortal form to w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mortal’s painful lot to b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ou didst hang upon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uaking earth acknowledged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ou didst there yield up Thy br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ld grew dark as shades of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in the Father’s glory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Conqueror never more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 by Thy mighty power def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ign through ages without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ign through ages without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eign through ages without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0:11Z</dcterms:modified>
  <cp:revision>2</cp:revision>
  <dc:subject/>
  <dc:title>O Help My Unbelief Words by Isaac Watts, Music by Justin Smith. © 2007 Justin Smith Music</dc:title>
</cp:coreProperties>
</file>