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F66-DFE6-4AD5-8A5F-243E0BBA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E44-F6C3-4351-8DD6-5035E5E0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C99-60D4-4889-BAF9-53B88956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432-4309-48A3-9D73-49E33174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C2D-97FF-45E4-A988-7710C5BE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3A3-844C-4D6F-BFDE-55C177D7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3D7-29BE-462C-83F2-74CDE50D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62E-B592-4CE8-BB53-33144F63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D0D-01C0-4913-B825-A6E7311E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A53-6C09-44E5-8CF0-C76168C5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444-0618-4BE9-A508-77FC15CF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795-57CE-4B50-9E6A-E9BAAED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AF04-B624-4FDD-B467-673F9843D1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 What My Hands Have Don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ratius Bonar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Kevin Twit  ©2001 Kevin Twit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what my hands have d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save my guilty so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what my toiling flesh has bor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make my spirit wh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what I feel or 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give me peace with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ll my praye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ighs and te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ar my awful lo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ork alone, O Chri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ease this weight of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blood alone O Lamb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give me peace with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love to me O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mine, O Lord,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rid me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dark unre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et my spirit fr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race alone, O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me can pardon speak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ower alone O Son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this sore bondage brea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ther work, save Th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ther blood will d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strength save th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is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ar me safely throu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less the Christ of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rest on love divi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th unfaltering lip and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ll this Savior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ross dispels each doub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ury in His tom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unbelief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my fe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lingering shade of gloo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praise the God of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rust His truth and m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alls me His, I call Him m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, my joy, my 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He Who saveth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reely pardon g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ve beca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oveth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ive because He liv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20:19Z</dcterms:modified>
  <cp:revision>19</cp:revision>
  <dc:subject/>
  <dc:title>Let Us Love and Sing and Wonder ©2001 Laura Taylor Music. Words: John Newton. Music: Laura Taylor.</dc:title>
</cp:coreProperties>
</file>