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7EA-0B77-4EAB-8C5E-5625480B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F54-A558-457B-B2DE-72019156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98B-F7BC-4960-A688-21359765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8C4-1FF1-4B9F-AAAE-90612B5F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F58-FA91-4AF2-B8DB-9713D65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39E-7A3F-42D1-BA92-68B4ED2E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F68-E944-46EB-91CD-13FEBC2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8BB-8DCC-4943-90C1-0FE3483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32F-DBFD-42F2-B72A-AD8FFAC9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E69-A9FA-412B-9068-E0A7A91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24A-D9BE-4FE6-A29B-DFF6175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11C-DD85-41E2-AE90-95E2F43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A96A-8263-4D9D-BF73-39C991250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What My Hands Have Don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©2001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my hands have d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ave my guilty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my toiling flesh has bor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my spirit wh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I feel or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give me peace with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my pray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ghs and t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ar my awful lo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k alone, O Chri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ease this weight of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lood alone O Lamb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give me peace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to me O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mine, O Lord,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rid me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dark un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t my spirit f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race alone, O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e can pardon speak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ower alone O Son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his sore bondage brea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work, save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blood will 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rength save th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is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ar me safely thr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less the Christ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on love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unfaltering lip and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l this Savior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ross dispels each doub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ry in His to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unb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lingering shade of gl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aise the God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ust His truth and m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 me His, I call Him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joy, m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 Who save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eely pardon g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be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ve because He liv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20:19Z</dcterms:modified>
  <cp:revision>19</cp:revision>
  <dc:subject/>
  <dc:title>Let Us Love and Sing and Wonder ©2001 Laura Taylor Music. Words: John Newton. Music: Laura Taylor.</dc:title>
</cp:coreProperties>
</file>