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BCB-AD37-407C-874E-D58332F1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5B6-9A4F-403A-BE5D-3CD0D33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65D-8473-4246-90A2-F90198E1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CD3-EDB3-4B83-954C-F137A588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653-F3E3-47F8-917E-7E3C137E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252-9C45-4DEC-AD4A-CD2BE78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6B7-3B16-4293-B550-2C5A96F6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DF3-251B-4814-B64B-DC8B162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27A-A092-46AF-9345-C401047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F6D-B6FD-45C9-A54D-302F157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3C4-C3C6-4CF5-962C-3992725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FA7-6C43-4752-A823-2ED8FE8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2958-35C3-4392-BF80-C728E84A5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hing But the Bloo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Robert Lowry   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wash away my s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make me whole ag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pardon, this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cleansing, this my pl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can for sin at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 of good that I have d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all my hope and pe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all my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22:05Z</dcterms:modified>
  <cp:revision>20</cp:revision>
  <dc:subject/>
  <dc:title>Let Us Love and Sing and Wonder ©2001 Laura Taylor Music. Words: John Newton. Music: Laura Taylor.</dc:title>
</cp:coreProperties>
</file>