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EB0-A9F7-4E2B-88C4-9B9C7AA8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136-4883-43C8-A36B-FAB708F0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004-2E73-4A84-AE3D-DD469A45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C20-BF77-4DAD-B689-ED173908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A36-C25F-4929-A4D2-7674797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F49-D1E7-42DC-A178-4EE5FC0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21D-626E-4AA3-9707-ABC01292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3B7-2141-4291-844A-10E6F47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B0F-1B0C-47A4-9064-9AD1584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061-654D-450D-8A8B-4051B89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210-8D5A-41BF-92FD-8DD7E9D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899-C509-4138-B1B9-EE79707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28B-4697-49DB-A1A3-1FEE413BA9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hing But the Bloo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Robert Lowry   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wash away my s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make me whole ag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pardon, this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cleansing, this my pl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can for sin at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 of good that I have d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all my hope and pe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all my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Precious is the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kes me white as sn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fount I k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but the blood of Jes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22:05Z</dcterms:modified>
  <cp:revision>20</cp:revision>
  <dc:subject/>
  <dc:title>Let Us Love and Sing and Wonder ©2001 Laura Taylor Music. Words: John Newton. Music: Laura Taylor.</dc:title>
</cp:coreProperties>
</file>