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E7A-DCA6-4EB2-AF6F-1E377BDB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A5A-4BBA-454D-83D7-CA8B2C3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D51-480D-4295-8C4A-228354D6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669-1E01-4A0B-B586-CD0061C4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DD4-29E5-4D37-BABD-DB2A485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EA1-A527-452B-8DA8-062DB31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3DC-C894-4057-A2B5-B259AE7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AA9-55B4-431E-8EA2-D9E9AEF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490-B83E-4D8C-BDF2-0FEA832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A58-205F-4836-B8F5-646FB78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465-7A9F-4B42-AA18-80BB8B1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FDE-3672-40A7-B8CB-05D48AD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0FD-0A43-4DE2-97FF-466F19736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Maker and My King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Brian Moss  ©2001 Parson John Publishing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Maker and my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my all I ow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overeign bounty is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ce all my blessings fl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overeign bounty is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ce all my blessings f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reature of Thy h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 alone I li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Thy benefits de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aise than I can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Thy benefits de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aise than I can g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hat can I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is Thine befo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demands a thankful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ift, alas! how po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demands a thankful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ift, alas! how po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! Let Thy grace insp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with strength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word and each des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days be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word and each des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days be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16:04Z</dcterms:modified>
  <cp:revision>18</cp:revision>
  <dc:subject/>
  <dc:title>Let Us Love and Sing and Wonder ©2001 Laura Taylor Music. Words: John Newton. Music: Laura Taylor.</dc:title>
</cp:coreProperties>
</file>