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1D09-F595-4DF4-8EA1-5BE1F596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80A1-EB43-42C3-B329-EF9EEAEF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CA3B-DF09-4787-A64E-39935ACF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2F24-CFC4-47C2-BBCD-511D2DC33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F1B8-1557-42DB-9569-9B2F7A4E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3779-5CCD-49BA-99BF-AF9B7D98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093C-B37A-4206-ABDE-27426177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389A-1479-412F-9D1D-930CE68D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EF9D-6029-4E1D-A3A7-EE6A158F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D027-2092-494D-91D8-00AA35A8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3B9C-C404-4813-851A-B8F182E5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B9E9-15EF-40C0-94A6-94AB4E6E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4427-8D32-4A31-8DB7-BF87DD2E5E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y Maker and My King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ne Steele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Brian Moss  ©2001 Parson John Publishing (ASCAP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Maker and my K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e my all I ow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sovereign bounty is the sp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ce all my blessings flow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sovereign bounty is the sp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ce all my blessings flo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reature of Thy h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hee alone I liv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God, Thy benefits dem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praise than I can gi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God, Thy benefits dem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praise than I can gi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, what can I imp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all is Thine befo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love demands a thankful hear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gift, alas! how poo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love demands a thankful hear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gift, alas! how poo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! Let Thy grace inspi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soul with strength divin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every word and each desi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ll my days be Th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every word and each desi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ll my days be Th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0:15Z</dcterms:created>
  <dc:creator>Zachary</dc:creator>
  <dc:description/>
  <dc:language>en-US</dc:language>
  <cp:lastModifiedBy>Zachary</cp:lastModifiedBy>
  <dcterms:modified xsi:type="dcterms:W3CDTF">2013-01-05T19:16:04Z</dcterms:modified>
  <cp:revision>18</cp:revision>
  <dc:subject/>
  <dc:title>Let Us Love and Sing and Wonder ©2001 Laura Taylor Music. Words: John Newton. Music: Laura Taylor.</dc:title>
</cp:coreProperties>
</file>