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C03B-29BE-40DA-B212-D11E3674A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DAE2-8106-4EB5-8030-2EE826C6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8274-EAAD-4E32-86C5-1DD036A37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B822-DA9A-4441-9D16-C37CC71A0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9173-AB87-40E7-BDB0-61D3FD28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45DA-09CC-4094-9600-B4B9A48C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A9A0-DF64-4754-B2C5-2087F28B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4387-A334-4460-849A-5B616574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DADB-48CA-467D-A3C6-6502FBFC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A458-AA63-43AD-91AC-BB2CB42B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CE37-F430-4DF2-A4D3-ED034246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E49C-35C7-4BB8-A590-852A3571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8F66-3656-4A03-AFDD-1BC6F9C631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y Jesus I Love Thee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lliam Featherstone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Adoniram Gordon  Public Dom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Jesus, I love Thee, I know Thou art min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e all the follies of sin I resig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gracious Redeemer, my Savior art Thou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ever I loved Thee, my Jesus, ’tis now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love Thee because Thou hast first loved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purchased my pardon on Calvary’s tr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love Thee for wearing the thorns on Thy brow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ever I loved Thee, my Jesus ’tis now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’ll love Thee in life, and I’ll love Thee in death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’ll praise Thee as long as Thou lendest me breath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ay when the death dew lies cold on my brow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ever I loved Thee, my Jesus ’tis now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mansions of glory and endless deligh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’ll ever adore Thee in Heaven so brigh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ing with the glittering crown on my brow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ever I loved Thee, my Jesus ’tis now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0:15Z</dcterms:created>
  <dc:creator>Zachary</dc:creator>
  <dc:description/>
  <dc:language>en-US</dc:language>
  <cp:lastModifiedBy>Zachary</cp:lastModifiedBy>
  <dcterms:modified xsi:type="dcterms:W3CDTF">2013-01-05T19:14:51Z</dcterms:modified>
  <cp:revision>17</cp:revision>
  <dc:subject/>
  <dc:title>Let Us Love and Sing and Wonder ©2001 Laura Taylor Music. Words: John Newton. Music: Laura Taylor.</dc:title>
</cp:coreProperties>
</file>