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43B-C3CF-4998-9261-F2FD06CF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DF0-51AF-4CBA-81D6-7267B254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851-CBBE-4561-8C14-877789EA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8EF-A858-479C-A07B-4B468716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F14-DB37-4398-B59E-2C73F402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70D-09F6-4D48-A840-AA2B53E8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043-BE26-467F-A3DA-1C903019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FA8-6ED1-45E6-AFBC-56478F37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BE8-BE5C-4548-A158-DC906F5A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544-0C29-4B9A-BE22-DBC6100F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203-C0E4-416A-A4D3-DB700FB1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3F9-89F7-4BB0-9BBE-10C6B51F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2EB9-D223-4520-960A-BFC288C7AC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 Jesus I Love Th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Featherstone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Adoniram Gordon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Jesus, I love Thee, I know Thou art m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e all the follies of sin I res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racious Redeemer, my Savior art Thou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ever I loved Thee, my Jesus, ’tis 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ve Thee because Thou hast first loved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urchased my pardon on Calvary’s t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ve Thee for wearing the thorns on Thy br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ever I loved Thee, my Jesus ’tis 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love Thee in life, and I’ll love Thee in dea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praise Thee as long as Thou lendest me brea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y when the death dew lies cold on my br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ever I loved Thee, my Jesus ’tis 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ansions of glory and endless de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ever adore Thee in Heaven so br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ing with the glittering crown on my br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ever I loved Thee, my Jesus ’tis 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14:51Z</dcterms:modified>
  <cp:revision>17</cp:revision>
  <dc:subject/>
  <dc:title>Let Us Love and Sing and Wonder ©2001 Laura Taylor Music. Words: John Newton. Music: Laura Taylor.</dc:title>
</cp:coreProperties>
</file>