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F5C-0D80-432D-ABAC-27B3BD9F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1F44-110F-40BA-8A5D-F9D586EB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304-27BA-4F0C-9D45-3B23C032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FEB0-E0B5-45CA-855D-95B40BF7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A8E-1901-46F7-8B9B-E111AB9B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C5E-8C45-41A7-B01B-CBA89F9B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81A3-48F7-40F5-8585-7FEE29C0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61D-28DD-4C5E-ACD0-BEE27C6A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C20-5F1C-4552-8051-5EB9279B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5BCA-078F-4802-8204-C71C0A1C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6EBD-B179-40BE-BAAF-CB3E008F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FD96-C73E-451F-B49F-AFDBD07F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08D6-5F6B-4717-9DD3-E99A71CB3D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y God My Father Blissful Nam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by Anne Steele Music by Justin Smith © 2008 Justin Smith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od, my Father, blissful Name!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ay I call Thee min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I, with sweet assurance, clai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ortion so divin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only can my fears contro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id my sorrows fl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harm can ever reach my sou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ath my Father’s ey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’er Thy providence deni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lmly would resig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u art just, and good, and wi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bend my will to Th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’er Thy sacred will ordain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ive me strength to bea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et me know my Father reign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rust His tender ca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pain and sickness rend this fr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ife almost dep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not Thy mercy still the sa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cheer my drooping heart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cares and sorrows me surroun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ir power why should I fea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inward peace they cannot w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Thou, my God, art ne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9:35Z</dcterms:created>
  <dc:creator>Zachary</dc:creator>
  <dc:description/>
  <dc:language>en-US</dc:language>
  <cp:lastModifiedBy>Zachary</cp:lastModifiedBy>
  <dcterms:modified xsi:type="dcterms:W3CDTF">2013-01-04T00:59:57Z</dcterms:modified>
  <cp:revision>1</cp:revision>
  <dc:subject/>
  <dc:title>My God My Father Blissful Name Words by Anne Steele Music by Justin Smith © 2008 Justin Smith Music</dc:title>
</cp:coreProperties>
</file>