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830-A984-475A-97CA-432CC329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F8F-F4B3-4DAC-8B75-E0F54EA5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246-913B-4ABD-963D-4D6B7BED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36A-64E4-43A8-A532-02DAC38B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2E8-BF1F-44F1-B607-7EDA9434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AED-54AB-4DCD-AFF7-8627A6F3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14C-46AE-4A6D-B083-87254249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A98-A896-4A2F-8D80-7B8D1CC9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1FF-A658-4835-AE0C-427BF00D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D0B-44C4-4665-8212-A846E48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1C5-2AEB-45EC-9410-368C2575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B87-4EA0-4447-8AD3-C21078B5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51AC-33DE-48FB-BA28-F3B315CB8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y God My Father Blissful Na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by Anne Steele Music by Justin Smith © 2008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my Father, blissful Name!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I call Thee m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, with sweet assurance, cla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ortion so div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nly can my fears contro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id my sorrows f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harm can ever reach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my Father’s ey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Thy providence den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lmly would resig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rt just, and good, and w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nd my will to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Thy sacred will ordai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me strength to b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me know my Father reig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ust His tender c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pain and sickness rend this fr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fe almost de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ot Thy mercy still the s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eer my drooping hear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cares and sorrows me surr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power why should I f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inward peace they cannot w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, my God, art n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9:35Z</dcterms:created>
  <dc:creator>Zachary</dc:creator>
  <dc:description/>
  <dc:language>en-US</dc:language>
  <cp:lastModifiedBy>Zachary</cp:lastModifiedBy>
  <dcterms:modified xsi:type="dcterms:W3CDTF">2013-01-04T00:59:57Z</dcterms:modified>
  <cp:revision>1</cp:revision>
  <dc:subject/>
  <dc:title>My God My Father Blissful Name Words by Anne Steele Music by Justin Smith © 2008 Justin Smith Music</dc:title>
</cp:coreProperties>
</file>