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180C-15B7-4319-826A-24199EB14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93EA-5765-40B1-8FA3-B54580F4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5FEE-6A1E-4D81-8F70-18C84E013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52AF-74F6-48B5-92F7-26C94FD99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1A43-87CC-4F36-A0BC-73797842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E8DD-89E4-4108-9B5B-86B1DE7F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E7A6-BDF2-4A27-A420-FFDD3BC8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6E18-6E0C-4660-B9DB-F7BABCAE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0AFA-E3AA-404F-91B1-3A7431AB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DC19-CAA8-40C0-8C1C-06B34CC7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16C4-F12F-40D1-B5A4-0CCDEED6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5E7A-D897-4305-8AEF-C143F911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7418-8A40-4C78-94B5-67F5685878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y God My Father Blissful Name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 by Anne Steele Music by Justin Smith © 2008 Justin Smith 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God, my Father, blissful Name!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may I call Thee min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 I, with sweet assurance, claim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portion so divin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only can my fears contro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bid my sorrows fly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harm can ever reach my sou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neath my Father’s ey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e’er Thy providence denie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calmly would resig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ou art just, and good, and wis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bend my will to Thi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e’er Thy sacred will ordain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give me strength to bear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let me know my Father reign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rust His tender ca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pain and sickness rend this fra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life almost depar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not Thy mercy still the sa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cheer my drooping heart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cares and sorrows me surroun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ir power why should I fea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inward peace they cannot wou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Thou, my God, art nea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9:35Z</dcterms:created>
  <dc:creator>Zachary</dc:creator>
  <dc:description/>
  <dc:language>en-US</dc:language>
  <cp:lastModifiedBy>Zachary</cp:lastModifiedBy>
  <dcterms:modified xsi:type="dcterms:W3CDTF">2013-01-04T00:59:57Z</dcterms:modified>
  <cp:revision>1</cp:revision>
  <dc:subject/>
  <dc:title>My God My Father Blissful Name Words by Anne Steele Music by Justin Smith © 2008 Justin Smith Music</dc:title>
</cp:coreProperties>
</file>