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263-EB0E-41EA-A16D-F72D313A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7F1-F4E8-411A-BC40-BC671B9A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101-D6AA-4110-A8B1-49B1B364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A5E-DFE1-4F99-A3DD-04FD1127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C48-7F68-4A9C-BCFD-FAB6DF7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404-36D5-4103-9652-FFBAF9D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071-5844-40EA-9465-EC8E827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631-E887-4DB6-B2C7-D12EEECD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F2B-44E3-4700-BB5E-48DD7CE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378-BF6B-46F4-8749-6D18525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D1A-6054-4993-826B-A3D035B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12B-C85A-4433-B38F-A4176A8D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764-656D-409D-9668-F16247A03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God My Father Blissful Na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Anne Steele Music by Justin Smith © 2008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my Father, blissful Name!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I call Thee m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, with sweet assurance, cla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ortion so div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nly can my fears contr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my sorrows f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arm can ever reach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my Father’s ey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providence den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mly would res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just, and good, and w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nd my will to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sacred will ordai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me strength to b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me know my Father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ust His tender c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pain and sickness rend this fr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fe almost de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Thy mercy still the s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my drooping hear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cares and sorrows me surr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power why should I f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inward peace they cannot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, my God, art n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9:35Z</dcterms:created>
  <dc:creator>Zachary</dc:creator>
  <dc:description/>
  <dc:language>en-US</dc:language>
  <cp:lastModifiedBy>Zachary</cp:lastModifiedBy>
  <dcterms:modified xsi:type="dcterms:W3CDTF">2013-01-04T00:59:57Z</dcterms:modified>
  <cp:revision>1</cp:revision>
  <dc:subject/>
  <dc:title>My God My Father Blissful Name Words by Anne Steele Music by Justin Smith © 2008 Justin Smith Music</dc:title>
</cp:coreProperties>
</file>