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B308-ABC5-468D-84BE-3ADC4B90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9220-2CD3-4546-B8C4-3AD0EBB9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D1DF-0830-4378-8C17-ADB13486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9BD4-FC19-409C-98C0-2DA0EA6E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0951-1392-498B-B301-4A232B7D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5CF9-1C34-4029-914C-06DB7035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D2C9-831F-4121-968F-27BFE96C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8466-6B79-4E6E-85F3-9D4E7063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EACA-0428-41CF-BD81-0FB8E9C9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B884-A816-492F-BE77-DC532866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C268-A619-41B2-A393-45E17A80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AC80-55BB-412A-B02F-8FDF1290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AE06-773C-4254-A3BD-09AD9BCC7E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y Faith Looks Up to Thee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y Palmer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Bobby Guy  ©Bobby Guy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faith looks up to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Lamb of Calva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or divin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hear me while I p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all my guilt aw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et me from this 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wholly Thin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Thy rich grace imp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ength to my fainting he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zeal inspi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Thou hast died for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may my love to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re warm, and changeless 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living fi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life’s dark maze I trea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riefs around me sprea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Thou my guid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d darkness turn to d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pe sorrow’s tears aw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let me ever st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ee as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ends life’s transient drea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death’s cold sullen str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o’er me roll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essed Savior, then in l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ar and distrust remo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bear me safe ab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ransomed soul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9:13:32Z</dcterms:modified>
  <cp:revision>16</cp:revision>
  <dc:subject/>
  <dc:title>Let Us Love and Sing and Wonder ©2001 Laura Taylor Music. Words: John Newton. Music: Laura Taylor.</dc:title>
</cp:coreProperties>
</file>