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C71-FC5F-4CAF-B1C4-BF7485E4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BC6-69DD-4CB2-A474-2E70006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DAE-F9DD-41BD-8E3C-0434BD54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D2A-F5A9-425A-A738-A5179110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ABB-476D-41E9-A57A-72106CF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BAA-13E1-4F39-A931-36C0EADE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35F-ED21-4EB6-8B1A-72A30E36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2B3-CDAD-4EDE-ADED-79AD1C37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430-67CA-44D6-B25F-CD0D11B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AAF-726F-47E2-AE36-E4A5FFB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4FC-F46B-4F26-9D1D-E555621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AF7-0A4F-463F-B603-FBF9CD0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D30E-7D8C-4E88-852E-7FC0453F61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Faith Looks Up to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y Palme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Bobby Guy  ©Bobby Gu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th looks up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amb of C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div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hear me while I p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all my guilt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me from thi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wholly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y rich grace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ngth to my fainting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zeal inspi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 hast died fo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my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e warm, and changeless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ving fi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life’s dark maze I t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iefs around me sp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gu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darkness turn to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pe sorrow’s tears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me ever s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e a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ends life’s transient dre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eath’s cold sullen 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o’er me ro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Savior, then in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ar and distrust rem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ar me safe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ansomed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13:32Z</dcterms:modified>
  <cp:revision>16</cp:revision>
  <dc:subject/>
  <dc:title>Let Us Love and Sing and Wonder ©2001 Laura Taylor Music. Words: John Newton. Music: Laura Taylor.</dc:title>
</cp:coreProperties>
</file>