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B51BE-155F-41A2-8D63-F9B304CD5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13BC3-81D7-4211-8F73-D118233EB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6007E-F4C3-4F9C-B5DB-2869B30DB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75485-943E-4177-AA30-91623D28A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72FCD-29D7-419D-B94A-DE6485517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F4E00-1764-40A0-B6EF-1B0462F35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C7D8B-B1C2-486C-B70F-6B5653478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2F71E-6EE1-4295-9B6C-488B29410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2E726-3A8F-4FA5-BB11-969AF37A1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5E682-285F-414A-BFDF-4EA1FFE42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33751-8701-467F-9D62-3FBAF53B5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4D5E2-33B5-4413-A7E8-F1D2C28B3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DD090-3238-45A4-8DD6-557529219D5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More Love to Thee O Christ</a:t>
            </a:r>
            <a:br>
              <a:rPr sz="36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rds: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lizabeth Prentiss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usic: William Doane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ublic Domai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ore love to Thee, O Christ, more love to Thee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ar Thou the prayer I make on bended kne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is is my earnest plea: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ore love, O Christ, to Thee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ore love to Thee, more love to Thee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nce earthly joy I craved, sought peace and rest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ow Thee alone I seek, give what is best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is all my prayer shall be: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ore love, O Christ to Thee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ore love to Thee, more love to Thee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n shall my latest breath whisper Thy praise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is be the parting cry my heart shall raise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is still its prayer shall be: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ore love, O Christ to Thee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ore love to Thee, more love to Thee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4T01:00:15Z</dcterms:created>
  <dc:creator>Zachary</dc:creator>
  <dc:description/>
  <dc:language>en-US</dc:language>
  <cp:lastModifiedBy>Zachary</cp:lastModifiedBy>
  <dcterms:modified xsi:type="dcterms:W3CDTF">2013-01-05T19:04:10Z</dcterms:modified>
  <cp:revision>14</cp:revision>
  <dc:subject/>
  <dc:title>Let Us Love and Sing and Wonder ©2001 Laura Taylor Music. Words: John Newton. Music: Laura Taylor.</dc:title>
</cp:coreProperties>
</file>