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8C06-787F-4BF0-A910-5C19BD49C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B25E-CB0E-4018-A507-BF168C15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90F2-D35D-47DF-BCF3-24C2982CC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B88F-702A-4713-82AD-9537D6D2F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9FF6-871B-42FC-B425-4C5DF43A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2705-97EC-447D-8F32-80C2D515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B879-6049-401D-8189-87139A0A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430D-CFFC-4274-BAF6-980C0B1B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1A68-C0E2-4F2B-BB20-E232E8B3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DC7D-0D3E-40B5-9222-EAC6A638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BCE3-B46D-45BC-955D-1A7F03B0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0E89-757E-4E37-8F58-B28FBCB4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2EB9-1C6E-4453-9CFE-C9906E5CDD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re Love to Thee O Christ</a:t>
            </a:r>
            <a:br>
              <a:rPr sz="3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izabeth Prentiss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William Doane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love to Thee, O Christ, more love to The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r Thou the prayer I make on bended kn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is my earnest plea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love, O Christ, to The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love to Thee, more love to The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ce earthly joy I craved, sought peace and res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Thee alone I seek, give what is be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all my prayer shall be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love, O Christ to The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love to Thee, more love to The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shall my latest breath whisper Thy prais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be the parting cry my heart shall rais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still its prayer shall be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love, O Christ to The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love to Thee, more love to The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0:15Z</dcterms:created>
  <dc:creator>Zachary</dc:creator>
  <dc:description/>
  <dc:language>en-US</dc:language>
  <cp:lastModifiedBy>Zachary</cp:lastModifiedBy>
  <dcterms:modified xsi:type="dcterms:W3CDTF">2013-01-05T19:04:10Z</dcterms:modified>
  <cp:revision>14</cp:revision>
  <dc:subject/>
  <dc:title>Let Us Love and Sing and Wonder ©2001 Laura Taylor Music. Words: John Newton. Music: Laura Taylor.</dc:title>
</cp:coreProperties>
</file>