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1FF-082B-423A-B4D7-60A996F4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FA1-5625-4190-94A4-D281EF74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7B4-CF81-408C-A230-653F181F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681-44B1-4F0C-8CEE-E7B662D0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D6B-2AA7-47DD-B232-5B9EEB60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E28-6AFB-4587-9027-B4BED84C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DAD-991B-4143-85D3-94AF3339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DB2-3BA3-4C37-82EE-87A40852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35B-C1AB-4694-85A5-A73EFFA8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F51-8CE2-493B-87C5-A2D2507B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403-D7DE-4877-AC7A-F4608927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13C-F887-451E-8F7D-4195B323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C684-3456-4E4C-898E-34AB4C173C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e Love to The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izabeth Prentiss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Kevin Twit   ©2005 Kevin Twit Music (ASCA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, O Christ, more love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Thou the prayer I make on bended kn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my earnest plea: More love, O Christ,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(more love) More love (more love), More love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(more love), more love (more love),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earthly joy I craved, sought peace and re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ee alone I seek, give what is b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all my prayer shall be: More love, O Christ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(more love) More love (more love), More love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(more love), more love (more love),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hall my latest breath whisper Thy pra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be the parting cry my heart shall ra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still its prayer shall be: More love, O Christ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(more love) More love (more love), More love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(more love), more love (more love),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06:07Z</dcterms:modified>
  <cp:revision>15</cp:revision>
  <dc:subject/>
  <dc:title>Let Us Love and Sing and Wonder ©2001 Laura Taylor Music. Words: John Newton. Music: Laura Taylor.</dc:title>
</cp:coreProperties>
</file>