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C31-0774-48B5-B4CE-9D5C7652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3E1-17A6-49D7-9F01-CD7479BD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772-1046-472D-A4FB-260753E2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BC8-4344-4DE7-8BD5-9FC7C12A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A21-0935-49F3-AB83-C7DE7809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457-1963-426B-8FE7-D7322508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67D-CA83-451A-B1BE-4EF6EF04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388-5C0A-4090-9A3F-B423A06B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670-1BF5-4F22-AE76-87E24BCC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3CC-BDB8-4DEE-8CD0-A94AEB3B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DFC-372C-4469-9041-D6CD44AB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17F-B561-4C32-8973-C614D407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4780-6E84-46F1-9CF5-D76ADF015F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e Love to The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izabeth Prentiss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Kevin Twit   ©2005 Kevin Twit Music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O Christ, more love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Thou the prayer I make on bended kn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my earnest plea: More love, O Christ,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(more love) More love (more love), More love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(more love), more love (more love),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earthly joy I craved, sought peace and re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ee alone I seek, give what is b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all my prayer shall be: More love, O Christ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(more love) More love (more love), More love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(more love), more love (more love),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hall my latest breath whisper Thy p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be the parting cry my heart shall 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still its prayer shall be: More love, O Christ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(more love) More love (more love), More love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(more love), more love (more love),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06:07Z</dcterms:modified>
  <cp:revision>15</cp:revision>
  <dc:subject/>
  <dc:title>Let Us Love and Sing and Wonder ©2001 Laura Taylor Music. Words: John Newton. Music: Laura Taylor.</dc:title>
</cp:coreProperties>
</file>