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DD7-88D3-423A-87AF-CA64D48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6BB-8AE5-4212-8095-6A8BCB8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AAB-F860-4665-8F58-8F761853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4DF-DBDC-4B84-9B0C-C56B391A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576-0AA4-4E84-85AA-50644833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95B-18E3-4868-B590-6A27272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570-2CF2-4B7C-B9F3-D8CEAC37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63B-201E-4309-9377-E9BD4BE5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056-A9CD-496B-AE05-E544E6F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6CC-5639-4D45-8E2D-3E94744B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55A-C20D-40A4-82B4-B7C597E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95B-74E4-4D80-8391-BBEFB7A4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585D-BFC6-4C79-B55E-6FCF8745C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rcy Speaks By Jesus’ Bloo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Gadsby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Derek Webb and Sandra McCracken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2 Niphon Music (ASCAP) / Same Old dress Music, Inc.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speaks by Jesus’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and sing, ye sons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atisfied inde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full atonement ma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peaks loud and swee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all Deity can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ithout a jarr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Zion to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Zion to rej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of conscience, peace with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obtain through Jesus’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peaks soli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lieve, and we are bl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lieve, and we are bl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the law against her ro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till speaks with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2:31Z</dcterms:modified>
  <cp:revision>13</cp:revision>
  <dc:subject/>
  <dc:title>Let Us Love and Sing and Wonder ©2001 Laura Taylor Music. Words: John Newton. Music: Laura Taylor.</dc:title>
</cp:coreProperties>
</file>