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F0C8-A309-4616-9C1A-55DD77E0C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7032-1A63-4A5F-AA62-5E69604B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060C-934E-44CC-A333-03377269F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7EC3-83D4-44D8-B92C-02E04333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6E27-4111-407D-9462-31B29834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568F-EAF4-4F93-A697-A5F53573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CC10-0162-4306-86C2-4FC7201C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FAC3-857F-4774-8306-4B1B68C5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C24A-9B1F-4D5C-B479-EB490C23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2D62-A3CF-4B4E-A1B4-72748D78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F568-6EA5-46A5-B315-BE442D5C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694C-3684-4FEC-9081-80D941C5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B7A9-AA4E-48E4-89CE-A71945EC30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ercy Speaks By Jesus’ Blood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lliam Gadsby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Derek Webb and Sandra McCracken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©2002 Niphon Music (ASCAP) / Same Old dress Music, Inc. (ASCAP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rcy speaks by Jesus’ bloo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r and sing, ye sons of Go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stice satisfied indee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rist has full atonement ma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’ blood speaks loud and swee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all Deity can mee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, without a jarring voi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lcome Zion to rejoi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lcome Zion to rejoi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her debts were cast on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he must and shall go fr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her debts were cast on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he must and shall go free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ace of conscience, peace with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obtain through Jesus’ bloo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’ blood speaks solid res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believe, and we are ble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believe, and we are ble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her debts were cast on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he must and shall go fr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her debts were cast on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he must and shall go free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uld the law against her roa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’ blood still speaks with pow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her debts were cast on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he must and shall go fr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e must and shall go free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her debts were cast on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he must and shall go fr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her debts were cast on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he must and shall go free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her debts were cast on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he must and shall go fr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her debts were cast on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he must and shall go free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0:15Z</dcterms:created>
  <dc:creator>Zachary</dc:creator>
  <dc:description/>
  <dc:language>en-US</dc:language>
  <cp:lastModifiedBy>Zachary</cp:lastModifiedBy>
  <dcterms:modified xsi:type="dcterms:W3CDTF">2013-01-05T19:02:31Z</dcterms:modified>
  <cp:revision>13</cp:revision>
  <dc:subject/>
  <dc:title>Let Us Love and Sing and Wonder ©2001 Laura Taylor Music. Words: John Newton. Music: Laura Taylor.</dc:title>
</cp:coreProperties>
</file>