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6F44-EFC4-470C-9282-0A0783FF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F042-F02A-459B-9D5E-332CEEE9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23C3-8584-4D0E-A6CF-C2039A67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E5B9-74BF-486E-B7ED-4450C486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2385-9F32-4F53-83F0-AFEC038B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6690-635B-4E2F-9149-FB94B09F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0431-13B8-41D5-BA60-CD29D0FF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BD42-EE51-4D9C-AB4B-C95CA57F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1E72-FD3A-4CB0-B6D7-E7AFA06B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461-82E8-4F57-BA32-0A438F1C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D66A-C2C2-40ED-8E33-AD61778A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161B-7528-4E72-81CD-15D58C87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0F67-451C-43CE-B95F-BA0D929B44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y the Mind of Christ My Savior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ate Wilikinson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A. Cyril Barham-Gould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the mind of Christ, my Savio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ve in me from day to d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His love and power control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I do and s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the Word of God dwell rich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my heart from hour to hou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 that all may see I triump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ly through His pow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the peace of God, my Fath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ule my life in everyth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I may be calm to comf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ck and sorrow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the love of Jesus fill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the waters fill the se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m exalting, self aba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s victo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9:00:24Z</dcterms:modified>
  <cp:revision>12</cp:revision>
  <dc:subject/>
  <dc:title>Let Us Love and Sing and Wonder ©2001 Laura Taylor Music. Words: John Newton. Music: Laura Taylor.</dc:title>
</cp:coreProperties>
</file>