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C44-33EB-4F32-B248-60C515AB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07E-7D35-418D-A1B2-9A5A65B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74D-052F-4F81-ACF7-6819F5B1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E95-F27C-4F2C-8A08-87B99FC1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0A2-E971-4945-A095-E6F235D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470-0FBC-416E-8DDD-993CD87A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8E4-CBB5-45BD-96AB-5535796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8EB-10C2-49E4-9116-A11080C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BCE-817B-44F0-A827-285D1B5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E79-04C5-4275-BE40-618688F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DE5-97EA-494E-8FE8-5CFC127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DF-3C09-47A0-A138-DBFF16D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648-948C-4B5F-936B-B3B20EFB03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y the Mind of Christ My Savior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te Wilikinson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A. Cyril Barham-Gould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mind of Christ, my Savi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 in me from day to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love and power contro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 do and s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Word of God dwell rich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heart from hour to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that all may see I triu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hrough His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peace of God, my Fath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my life in every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ay be calm to com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 and sorrow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love of Jesus fill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e waters fill the s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m exalting, self ab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vic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0:24Z</dcterms:modified>
  <cp:revision>12</cp:revision>
  <dc:subject/>
  <dc:title>Let Us Love and Sing and Wonder ©2001 Laura Taylor Music. Words: John Newton. Music: Laura Taylor.</dc:title>
</cp:coreProperties>
</file>