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C0C-DC04-4EE7-B3CD-9F53B7BE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351-C2C7-4399-9E21-AFA293C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65E-926C-464A-8A88-2949CFEB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912-18F4-4450-AFD1-7E70229D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3C9-7408-4469-99AF-15AF48F9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3D7-1AAC-484A-A241-3F94DBBA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B3E-1573-4402-88D3-B9E1706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69F-938A-400B-B9D8-3141B96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46E-0B24-4860-B3AA-D9A3103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772-A139-4281-A1C3-9466D83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A99-7F4D-4F42-96D4-72F09B4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F46-FAA7-4A4F-B00F-7FC8CBA7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7F9-C190-4568-A1B1-65763A3A3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 of Sorrow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ilip Blis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Phelps Anderson and Jim Hitch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2 Phelps Anderson Music / Jim Hitch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of Sorrows! What a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on of God, Who c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ined sinners to recla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ing shame and scoffing ru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place condemned He st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led my pardon with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lty, vile, and helpless w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otless Lamb of God was H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atonement! Can it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ed up was He to di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finished!” was His cr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in heaven exalted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comes, our glorious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ransomed home to br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anew His song we’ll s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8:58:26Z</dcterms:modified>
  <cp:revision>11</cp:revision>
  <dc:subject/>
  <dc:title>Let Us Love and Sing and Wonder ©2001 Laura Taylor Music. Words: John Newton. Music: Laura Taylor.</dc:title>
</cp:coreProperties>
</file>