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CA6-6239-481F-8DCE-98274AEF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FD3-CD31-41E0-B920-E8F44C98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4E5-C771-4A6B-97C5-7BEF324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68E-12ED-4187-B988-24319A50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417-4D91-491B-A733-9AFA2761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9FD-7B2C-493E-8644-39228CB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4FC-F692-4F2F-8DD1-B8D9D8F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ED6-46F8-45CB-BD51-12007B64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8FF-3A1F-46FF-B6D7-6278810A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B82-08D7-4740-B609-876C3DE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1DB-5AA2-4135-8DCF-77563FF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DBA-C961-4C28-8F08-831113D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FB26-7762-4EC4-B6EB-056486082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 of Sorrow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ilip Blis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Phelps Anderson and Jim Hitch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2 Phelps Anderson Music / Jim Hitch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of Sorrows! What a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on of God, Who c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ined sinners to recla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ing shame and scoffing ru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place condemned He st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led my pardon with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lty, vile, and helpless w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otless Lamb of God was H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atonement! Can it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ed up was He to di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finished!” was His cr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in heaven exalted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comes, our glorious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ransomed home to br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anew His song we’ll s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8:58:26Z</dcterms:modified>
  <cp:revision>11</cp:revision>
  <dc:subject/>
  <dc:title>Let Us Love and Sing and Wonder ©2001 Laura Taylor Music. Words: John Newton. Music: Laura Taylor.</dc:title>
</cp:coreProperties>
</file>