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EDA-F25B-41D4-831E-9654E7FE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869-81D2-4EAB-AA41-6F390388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6AD-4D1F-48BE-813F-9EF14812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CA1-1C39-44E9-8806-290CBDCB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39E-D1D6-4E60-8AE2-3B9082F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194-8178-4DB4-A550-4E0AC147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5CD-8618-4F8A-B149-001A1FDF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466-D7E8-4197-A20D-E10398EE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3FF-5A2E-4F52-AB16-AA6C161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FCB-23EF-48C9-BF17-3DAE2274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D2C-11D4-40A7-A05C-4E8A9B2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363-5CC4-4461-8122-3654399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16A6-25D8-44A9-9443-0621700F7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 Constraining to Obedienc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Kevin Twit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1998 Kevin Twit Music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trength of nature can suff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rve the Lord a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at she has, she misappl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ant of clearer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 beneath the Law I 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bondage and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oiled the precept to obe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iled without succ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o abstain from outward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more than I could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if I feel its power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el I hate it t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all my servile works were d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ighteousness to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, freely chosen in the 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reely choose His w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9:13Z</dcterms:modified>
  <cp:revision>9</cp:revision>
  <dc:subject/>
  <dc:title>Let Us Love and Sing and Wonder ©2001 Laura Taylor Music. Words: John Newton. Music: Laura Taylor.</dc:title>
</cp:coreProperties>
</file>