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D77-509D-4B7E-8B4F-581B6CCF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14A-C6B5-4C9A-B968-CB0073A6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F84-8161-4E3D-B15B-2D17784F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983-6FAC-4AA4-B802-C8D4603C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FD8-2D19-4448-919B-EE5BB3B6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E5D-CA38-43A8-AF82-BA2BD450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A14-0B47-4F1D-B837-88849D7A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E1A-FE4F-4BE8-B355-40A02DE9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DDE-1493-4022-BD3A-AC65295C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D18-6A54-493C-8F93-1D9417C7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68D-CEBC-446D-A9B1-52460CC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379-85C9-47C6-992F-1F79A573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CABF-034F-469B-8BC2-0035134543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ve Constraining to Obedienc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Cowper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Kevin Twit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1998 Kevin Twit Music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 Law by Christ fulfil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r His pardon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s a slave into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uty into ch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trength of nature can suff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rve the Lord a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at she has, she misappli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ant of clearer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 Law by Christ fulfil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r His pardon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s a slave into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uty into ch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long beneath the Law I 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bondage and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oiled the precept to obe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oiled without succ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 Law by Christ fulfil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r His pardon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s a slave into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uty into ch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o abstain from outward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more than I could 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if I feel its power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eel I hate it to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 Law by Christ fulfil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r His pardon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s a slave into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uty into ch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all my servile works were d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righteousness to 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, freely chosen in the S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reely choose His w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 Law by Christ fulfill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r His pardoning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s a slave into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uty into cho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59:13Z</dcterms:modified>
  <cp:revision>9</cp:revision>
  <dc:subject/>
  <dc:title>Let Us Love and Sing and Wonder ©2001 Laura Taylor Music. Words: John Newton. Music: Laura Taylor.</dc:title>
</cp:coreProperties>
</file>