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9B0-9190-4F6B-BA22-C9FB5A1C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51A-ECE5-4D6C-9F11-CBD308C5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E2B-396A-4DAC-B8D2-A7E8ACA6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ABC-9FAA-4578-A7DA-6CB25944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E75-BC65-4C9B-9C3A-2865542B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565-DD79-4982-A263-4F52C224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D98-420A-4D9D-B09C-6B8AEBD0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CC6-3198-4EF5-8209-B6556146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585-68B6-4D21-9140-C8403DF9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6B8-ECFE-442E-B25E-BD6D14F3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579-78ED-4E62-BEC6-58293F71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01F-088C-448E-83AE-EA84ED3A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BE22-1DCD-4C44-8555-2470231068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 The Storms Of Life Are Breaking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 by Henry Alford Music by Kevin Twit © 2009 Kevin Twit Music (ASCA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 the storms of life are brea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less fears our hearts are sh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our succor underta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and Savior, help 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The world from Thee rebel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und Thy Church in pride is sw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y word their madness quel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and Savior, help 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birth, Thy cross, and pa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tears of deep compa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ighty interce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d and Savior, help 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ine own command rel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our onward task are ply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Thee for safety sigh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and Savior, help 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birth, Thy cross, and pa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tears of deep compa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ighty interce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d and Savior, help 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7:51Z</dcterms:created>
  <dc:creator>Zachary</dc:creator>
  <dc:description/>
  <dc:language>en-US</dc:language>
  <cp:lastModifiedBy>Zachary</cp:lastModifiedBy>
  <dcterms:modified xsi:type="dcterms:W3CDTF">2013-01-04T00:58:47Z</dcterms:modified>
  <cp:revision>1</cp:revision>
  <dc:subject/>
  <dc:title>Lo The Storms Of Life Are Breaking Words by Henry Alford Music by Kevin Twit © 2009 Kevin Twit Music (ASCAP)</dc:title>
</cp:coreProperties>
</file>