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8C3-32E4-41F0-8349-A234334B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C6E-AFAD-4986-9D00-888884DB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6D7-C991-4156-8D28-7F7BE61D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AFA-DE53-4AC0-9F9C-E433F3DE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5DD-5556-4686-AF27-39584048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ED0-3ED7-4DED-A1EB-5CFEDF6F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FC3-2E6E-486E-AD54-22D4FC5A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8BC-D3D5-436F-AEB3-8FAD8490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67D-8EB1-4B40-8FD8-C124A3B8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EE5-1D43-472E-ADC9-389BA36C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70E-F1BB-49C4-8D7C-95B96D6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D6D-4210-453B-8AE3-1149EF0E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8ED0-8215-4D25-8794-16E585C3CD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 The Storms Of Life Are Breaking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 by Henry Alford Music by Kevin Twit © 2009 Kevin Twit Music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 the storms of life are brea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less fears our hearts are sh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ur succor underta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The world from Thee rebel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und Thy Church in pride is sw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word their madness quel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birth, Thy cross, and 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tears of deep com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ighty interce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ine own command rel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our onward task are pl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Thee for safety sigh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birth, Thy cross, and 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tears of deep com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ighty interce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 and Savior, help 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7:51Z</dcterms:created>
  <dc:creator>Zachary</dc:creator>
  <dc:description/>
  <dc:language>en-US</dc:language>
  <cp:lastModifiedBy>Zachary</cp:lastModifiedBy>
  <dcterms:modified xsi:type="dcterms:W3CDTF">2013-01-04T00:58:47Z</dcterms:modified>
  <cp:revision>1</cp:revision>
  <dc:subject/>
  <dc:title>Lo The Storms Of Life Are Breaking Words by Henry Alford Music by Kevin Twit © 2009 Kevin Twit Music (ASCAP)</dc:title>
</cp:coreProperties>
</file>