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7C0-0741-41AC-BC54-D03A8C46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57C-CA03-4572-BDCD-0F53EBF0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11D-6438-4469-8CEF-960F2970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B07-2E4F-4641-9B28-11D7922A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45D-77F2-47EA-BAC8-25981D30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D22-6E83-48AA-8575-4749958A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A78-3317-40F7-B071-D3DC2440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2F7-3051-419D-AF31-36A347EC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485-1D63-4174-8743-21A3EB73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A86-1368-47BC-9762-894FB5C1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529-86FF-4E88-8D35-A958D0AA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A61-AB51-42D7-97BC-4C8CEF3B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3857-9A2E-485B-B790-0D43332B4E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rd Thou Hast Searched Me (Ps 139)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cottish Psalter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: Wittenberg Gesangbuch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ublic Domain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Thou hast searched me and dost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’er I rest, where’er I g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knowest all that I have plann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my ways are in Thy h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words from Thee I cannot h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eel Thy power on every s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, wondrous knowledge, awful m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fathomed depth, unmeasured heigh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can I go apart from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whither from Thy presence fl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eaven? It is Thy dwelling fai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death’s abode? Lo, Thou art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the wings of morning tak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ar away my dwelling mak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and that leadeth me is Th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support Thy pow’r div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deepest darkness cover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rkness hideth not from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both night and day are b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rkness shineth as the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56:11Z</dcterms:modified>
  <cp:revision>7</cp:revision>
  <dc:subject/>
  <dc:title>Let Us Love and Sing and Wonder ©2001 Laura Taylor Music. Words: John Newton. Music: Laura Taylor.</dc:title>
</cp:coreProperties>
</file>