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5CC-7735-40F6-9B0E-233DC1FA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815-B5B7-4D54-AAB4-6F4ED6B5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6D3-B87C-40A9-9D34-3DB6197C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2FE-1860-4EC3-ABBF-FBE4D2F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08B-49F1-4487-88EC-3894EC9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42D-D4EF-4217-AFE0-DB3DCB4D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AA9-D272-4D4D-B87B-5B29BC21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218-3AD2-4D6D-A496-2773792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006-C8EC-486F-A9F8-B586346D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42D-2C67-46B6-A32F-0E63FAE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CEA-F775-4E1B-A449-56D387C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183-3CF8-4011-9A52-34AFBC4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BB9-18C5-427F-A7B1-438DC03C8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Thou Hast Searched Me (Ps 139)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cottish Psalter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Wittenberg Gesangbuch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ublic Domain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Thou hast searched me and dost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I rest, where’er I g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knowest all that I have plann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ways are in Thy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ords from Thee I cannot h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el Thy power on every s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, wondrous knowledge, awful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fathomed depth, unmeasured heigh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can I go apart from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whither from Thy presence fl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eaven? It is Thy dwelling fai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ath’s abode? Lo, Thou art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the wings of morning tak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ar away my dwelling mak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and that leadeth me is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support Thy pow’r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deepest darkness cove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hideth not from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both night and day are b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shineth as the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6:11Z</dcterms:modified>
  <cp:revision>7</cp:revision>
  <dc:subject/>
  <dc:title>Let Us Love and Sing and Wonder ©2001 Laura Taylor Music. Words: John Newton. Music: Laura Taylor.</dc:title>
</cp:coreProperties>
</file>