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930-DFFC-4FAD-BF8C-9A2ED272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D7-DBB4-45A5-8B3A-ABD8FF6F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927-BBFD-40A5-8643-6052DB4B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97E-BF1B-4A42-8FED-DBB32F3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C6D-20F3-463E-B601-AB0AA84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BB0-56A1-499E-B454-66CA547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95B-2B06-43A0-83A8-F9EDA91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773-D1CD-4841-8E19-13B705B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99B-F8BC-4D15-BBD1-A764C18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A4-339D-47FE-BAC1-E293758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60E-011C-4AD9-A763-D7D0578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A06-4956-4764-9E87-DF42287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783-C56B-46E4-B7CB-978D0474C1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rd Speak to M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ncis Havergal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Eric Ashley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9 Eric Ashley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speak to me that I may sp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ving echoes of Thy t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t sought, so let me se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erring children lost and 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ad me, Lord, that I may l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andering and the wavering fee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eed me, Lord, that I may f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ungering ones with manna sw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ach me, Lord, that I may t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ecious things Thou dost imp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ng my words, that they may r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dden depths of many a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ill me with Thy fullness,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my very heart o’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kindling thought and glowing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to tell, Thy praise to sh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use me, Lord, use eve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Thou wilt, when, and whe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Thy blessed face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est, Thy joy, Thy glory sh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speak to me that I may sp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ving echoes of Thy t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00:21Z</dcterms:modified>
  <cp:revision>10</cp:revision>
  <dc:subject/>
  <dc:title>Let Us Love and Sing and Wonder ©2001 Laura Taylor Music. Words: John Newton. Music: Laura Taylor.</dc:title>
</cp:coreProperties>
</file>