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894-8576-4CD0-8CAE-46012F56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A13-9359-4203-A01F-25A8D423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C4E-2A7D-4700-9456-A5A0A477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8C6-01DE-441F-9F84-E40869B4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DAA-40A2-4DA3-AD48-AA7E8A82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949-3D31-4859-9B6C-C53032E2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C16-E050-44C6-9018-BA271565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5C3-D0D3-4858-86E6-76EA7211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382-AADF-47EA-A064-EC649E9E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CAD-3E47-4025-AAF2-631DA8BF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084-057C-4128-9B40-9720D7A5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472-5733-4028-88D0-92997E01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DABB-7112-4F37-A7E1-36EA6943F7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rd Speak to M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ncis Havergal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Eric Ashley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1999 Eric Ashley Music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speak to me that I may spe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iving echoes of Thy t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ou hast sought, so let me se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erring children lost and l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ad me, Lord, that I may l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andering and the wavering fee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eed me, Lord, that I may f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ungering ones with manna swe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each me, Lord, that I may t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ecious things Thou dost imp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ng my words, that they may r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idden depths of many a he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ill me with Thy fullness,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il my very heart o’er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kindling thought and glowing w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love to tell, Thy praise to sh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use me, Lord, use eve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Thou wilt, when, and whe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il Thy blessed face I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rest, Thy joy, Thy glory sha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speak to me that I may spe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iving echoes of Thy t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8:00:21Z</dcterms:modified>
  <cp:revision>10</cp:revision>
  <dc:subject/>
  <dc:title>Let Us Love and Sing and Wonder ©2001 Laura Taylor Music. Words: John Newton. Music: Laura Taylor.</dc:title>
</cp:coreProperties>
</file>