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3A9-D6F6-4739-8892-3F29F467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A49-B7D3-4E3F-A179-D06A4694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FA1-619A-4A30-86DC-788CBC29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4134-2DF3-466F-A04B-61A7E712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C87-17BD-4C11-A7D5-FA9BF15E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AF1-177B-40F0-AD6D-F64B0188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5FB-5BF6-490E-861D-A6A4E05F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414-9EE7-4566-A204-107DF967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74A-741C-45FE-BB41-F0AD545C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499-8AF6-4B3D-92F7-1C2B3618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689-635B-4AEB-9691-7AB0E50E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CA1-0DBD-487E-9817-51BE9EBF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F0F2-D146-48A7-B1B8-5B8928B752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, He Comes with Clouds Descening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harles Wesley, Martin Madan, Joseph Swain (vs. 3) and John Cennick (vs. 4)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ic: Matthew Smith   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©2001 Detuned Radio Music 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 eye shall then behold H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bed in dreadful majest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se who set at naught and sold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erced and nailed Him to the t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eply wailing, deeply wail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the true Messiah s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He com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louds desc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for favored sinners, sla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sand thousand saints att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ll the triumph of His trai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Halleluja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appears on earth to re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He comes in glory shi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ints arise and meet your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ious captain of salv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come welcome” hear them 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ts of triumph, shouts of trium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the heavens with echoes 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He com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louds desc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for favored sinners, sla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sand thousand saints att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ll the triumph of His trai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Halleluja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appears on earth to re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redemption, long expect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in solemn pomp appe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is saints, by man reject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shall meet Him in the ai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Halleluja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the day of God appea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He com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louds desc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for favored sinners, sla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sand thousand saints att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ll the triumph of His trai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Halleluja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appears on earth to re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, amen! Let all adore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on Thine eternal thr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take the power and gl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aim the kingdom for Thine ow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come quickly! O come quickl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Come, Lord, co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! He com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louds desc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for favored sinners, sla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sand thousand saints atten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ll the triumph of His trai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Halleluja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appears on earth to re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7:54:02Z</dcterms:modified>
  <cp:revision>6</cp:revision>
  <dc:subject/>
  <dc:title>Let Us Love and Sing and Wonder ©2001 Laura Taylor Music. Words: John Newton. Music: Laura Taylor.</dc:title>
</cp:coreProperties>
</file>