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170-CDD9-45B0-B049-EB3D5122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454-9270-4661-B132-D2D0551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174-7AD8-4C66-BA97-2FA4F2A1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B64-ECE9-4165-9857-DCB920C2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EBC-C2FA-4281-95F0-C2B1F40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E12-C27E-430E-9553-5EC279C3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18E-13FD-4AB3-87C7-E59A2E8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E19-8DB6-43A8-B4B6-8455325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BDE-BA14-4E44-9724-DFB72BD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904-5375-43F5-9A0F-41B2E8C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929-4A87-4229-9B9C-DD4FEBD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584-135A-4E38-9777-0665721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FCA-D5BB-4AFD-8B34-95A942B0D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, He Comes with Clouds Descening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, Martin Madan, Joseph Swain (vs. 3) and John Cennick (vs. 4)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Matthew Smith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2001 Detuned Radio Music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ye shall then behold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dreadful majest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set at naught and sol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ply wailing, deeply w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e true Messiah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in glory sh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arise and meet your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captain 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welcome” hear them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ts of triumph, shouts of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the heavens with echoes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demption, long exp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in solemn pomp app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saints, by man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ll meet Him in the ai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day of God app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men! Let all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ake the power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im the kingdom for Thine 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quickly! O come quick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Come, Lord, 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4:02Z</dcterms:modified>
  <cp:revision>6</cp:revision>
  <dc:subject/>
  <dc:title>Let Us Love and Sing and Wonder ©2001 Laura Taylor Music. Words: John Newton. Music: Laura Taylor.</dc:title>
</cp:coreProperties>
</file>