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D37-38AA-4EAA-A9F7-9381BC9B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6F6-CD85-49CB-919D-1C0BC6D7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8F5-92B5-4D1F-9209-5E9DE2AE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1AC-ECA6-4F69-93B6-0CEE61FB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370-E389-4224-BE07-2D77E4AE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9A8-3FD1-4AD6-B75E-D5024C3A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0F3-7521-46E1-AEBD-01BE014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65E-19D1-4FFA-BF16-39349A70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385-BE72-4CAB-A68F-559C2A09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086-C3D4-4594-A641-72442134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5DF-F3E6-428D-8793-B4A7B71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5EE-94DA-4DF2-A1BF-330DE90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4A9-C7B0-4A65-ADDD-12554F76F6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, He Comes with Clouds Descening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, Martin Madan, Joseph Swain (vs. 3) and John Cennick (vs. 4)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Darwin Jordan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©Darwin Jordan Music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our salvation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eye shall now behold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d in dreadful majest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who set at naught and sol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rced and nailed Him to the t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eply wailing, deeply wa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e true Messiah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in glory sh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ints arise and meet your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captain 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welcome” hear them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ts of triumph, shouts of trium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the heavens with echoes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redemption, long exp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in solemn pomp app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saints, by man rej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hall meet Him in the ai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the day of God appea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amen! Let all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on Thine eternal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ake the power and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im the kingdom for Thine 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quickly! O come quick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Come, Lord, c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2:06Z</dcterms:modified>
  <cp:revision>5</cp:revision>
  <dc:subject/>
  <dc:title>Let Us Love and Sing and Wonder ©2001 Laura Taylor Music. Words: John Newton. Music: Laura Taylor.</dc:title>
</cp:coreProperties>
</file>