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A87-B5A5-4EDF-B93E-A9D01E64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302-7F8F-45D3-B61C-5E687A35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1AB-4412-404A-A723-0DCBBCC2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9B7-95C3-408F-A38A-E4698551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FE8-74D3-45F4-91BA-9964D4EC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6B9-4FE4-47D1-96A4-FD8141C7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A2C-AFEF-4B80-B51D-9E301EA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D82-69C5-43E8-B2EB-E1295C8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41E-4C5C-4989-831C-2F2AD78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FC5-EEB0-48CD-B439-94A83E3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C63-0B17-428F-96BF-EA2453A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754-D286-414D-89E8-D591196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E521-FA67-4731-85DF-8A0C77A116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, He Comes with Clouds Descening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, Martin Madan, Joseph Swain (vs. 3) and John Cennick (vs. 4)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Darwin Jordan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©Darwin Jordan Music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our salvation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eye shall now behold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d in dreadful majest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who set at naught and sol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rced and nailed Him to the t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eply wailing, deeply wa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e true Messiah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in glory sh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ints arise and meet your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captain 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welcome” hear them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ts of triumph, shouts of trium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the heavens with echoes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redemption, long exp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in solemn pomp app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saints, by man rej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hall meet Him in the ai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the day of God appea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amen! Let all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on Thine eternal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ake the power and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im the kingdom for Thine 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quickly! O come quick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Come, Lord, c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2:06Z</dcterms:modified>
  <cp:revision>5</cp:revision>
  <dc:subject/>
  <dc:title>Let Us Love and Sing and Wonder ©2001 Laura Taylor Music. Words: John Newton. Music: Laura Taylor.</dc:title>
</cp:coreProperties>
</file>